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1.jpeg" ContentType="image/jpeg"/>
  <Override PartName="/ppt/media/image38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4"/>
          </p:nvPr>
        </p:nvSpPr>
        <p:spPr>
          <a:xfrm>
            <a:off x="38736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5"/>
          </p:nvPr>
        </p:nvSpPr>
        <p:spPr>
          <a:xfrm>
            <a:off x="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6"/>
          </p:nvPr>
        </p:nvSpPr>
        <p:spPr>
          <a:xfrm>
            <a:off x="387360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2906-FE46-479A-91BF-7C7FDFFF5BF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F448-7857-450D-BAD4-8A5CF3AEAD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890C-B3D0-4247-9BB6-6D8F1EAD3FE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52C7-4554-42CF-8206-ACB5FF56BEDF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200" y="4738680"/>
            <a:ext cx="5467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0FB3-7742-40B6-AAC6-C0E2670E10C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8D10-4933-4CE5-9D4A-BDC4E1AA50E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505C-76B9-4BC2-9FA5-B70FF655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226-F9C0-4BBE-94EB-08596121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CC49-2426-4A65-8BB6-3B5289AE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E0A-F73C-4EBB-8FB6-FA08DA91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E1ED-F0E3-4DC0-AF24-6576D8BE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18B-50A3-41DF-B151-2B3A847E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2EF1-0E4D-46D2-8B86-0CCB1DDB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614-953D-486C-917A-D2B4D3B3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676B-2DC0-4CCE-9A31-F9377CE2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CD5B-935E-4D3A-8CDC-9258D7EA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22DF-C86C-4D55-BBFF-66905CD0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475-1087-40B8-BC70-EAE2D7D7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slayd"/>
          <p:cNvPicPr/>
          <p:nvPr/>
        </p:nvPicPr>
        <p:blipFill>
          <a:blip r:embed="rId2"/>
          <a:srcRect l="16686" t="0" r="0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8C55-7A6A-48E0-A274-5239F6415B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47" descr="slayd_tit_down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48" descr="slayd"/>
          <p:cNvPicPr/>
          <p:nvPr/>
        </p:nvPicPr>
        <p:blipFill>
          <a:blip r:embed="rId3"/>
          <a:srcRect l="0" t="0" r="12262" b="0"/>
          <a:stretch/>
        </p:blipFill>
        <p:spPr>
          <a:xfrm>
            <a:off x="0" y="0"/>
            <a:ext cx="9144000" cy="1476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4360" y="1571760"/>
            <a:ext cx="77040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Построение коммерческой инфраструктуры рынка в сфере грузовых железнодорожных перевозок»</a:t>
            </a:r>
            <a:br>
              <a:rPr sz="2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 Росси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6"/>
          <p:cNvSpPr/>
          <p:nvPr/>
        </p:nvSpPr>
        <p:spPr>
          <a:xfrm>
            <a:off x="214200" y="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 - универсальный институт торговли различными вида ресурсами в сфере организации железнодорожных перевоз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атформе КИР может развиваться коммерческая инфраструктура различных рынков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вагонов («торговая площадка вагонов») и, ка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ная от этого рынка, либо как самостоятельный элемент – рынок долгосрочной аренды ваго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путей общего и необщего пользования для размещения вагонов («торговая площадка услуг по «отстою вагонов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локомотивной тяги (в долгосрочной перспективе, после либерализации этого рын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экспедиторских услуг (который может быть интегратором услуг с «соседних» рынков, например вагонного, с добавлением дополнительных иных услуг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услуг по ремонту вагонов, торговли годными или забракованными деталями или запчастям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участников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4859280" y="1376280"/>
            <a:ext cx="1763640" cy="50328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Информационная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2698920" y="1374840"/>
            <a:ext cx="1800000" cy="50472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Торговая 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250920" y="3392640"/>
            <a:ext cx="2016000" cy="684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пользователе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слугами ж/д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ранспорт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250920" y="2637000"/>
            <a:ext cx="2014560" cy="7189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лата ж/д перевозч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250920" y="1879560"/>
            <a:ext cx="2014560" cy="7207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владельце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нфраструктуры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250920" y="1052640"/>
            <a:ext cx="2016000" cy="792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операторо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движного состав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8"/>
          <p:cNvSpPr/>
          <p:nvPr/>
        </p:nvSpPr>
        <p:spPr>
          <a:xfrm>
            <a:off x="3562200" y="2744640"/>
            <a:ext cx="2411640" cy="1258920"/>
          </a:xfrm>
          <a:prstGeom prst="rect">
            <a:avLst/>
          </a:prstGeom>
          <a:solidFill>
            <a:srgbClr val="115606"/>
          </a:solidFill>
          <a:ln w="19080">
            <a:solidFill>
              <a:srgbClr val="f1b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Наблюдате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Сов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0"/>
          <p:cNvSpPr/>
          <p:nvPr/>
        </p:nvSpPr>
        <p:spPr>
          <a:xfrm>
            <a:off x="6804000" y="1125360"/>
            <a:ext cx="2340000" cy="2880000"/>
          </a:xfrm>
          <a:prstGeom prst="rect">
            <a:avLst/>
          </a:prstGeom>
          <a:solidFill>
            <a:srgbClr val="c0c0c0"/>
          </a:solidFill>
          <a:ln w="22320">
            <a:solidFill>
              <a:srgbClr val="115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ПАЛАТА ПРЕДСТАВИТЕ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УДАР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А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тран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ду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Совет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2266920" y="2995560"/>
            <a:ext cx="1260360" cy="468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36"/>
          <p:cNvSpPr/>
          <p:nvPr/>
        </p:nvSpPr>
        <p:spPr>
          <a:xfrm>
            <a:off x="2266920" y="2276640"/>
            <a:ext cx="1260360" cy="971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7"/>
          <p:cNvSpPr/>
          <p:nvPr/>
        </p:nvSpPr>
        <p:spPr>
          <a:xfrm>
            <a:off x="2230560" y="1628640"/>
            <a:ext cx="1296720" cy="140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1"/>
          <p:cNvSpPr/>
          <p:nvPr/>
        </p:nvSpPr>
        <p:spPr>
          <a:xfrm flipH="1">
            <a:off x="5975280" y="2421000"/>
            <a:ext cx="828720" cy="86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4"/>
          <p:cNvSpPr/>
          <p:nvPr/>
        </p:nvSpPr>
        <p:spPr>
          <a:xfrm>
            <a:off x="395280" y="4292640"/>
            <a:ext cx="842472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Принципы формирования Палат и Наблюдательного Совет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Палаты формируется по  принципу  «одна палата для каждой группы  участников рынка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Количество членов каждой Палаты не ограничено и не влияет на число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Наблюдательный Совет формируется из представителей палат при соблюдении баланса интересов между покупателями (6 членов) и продавцами (по 2 члена от каждой палаты) услуг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Государство имеет своих представителей в Наблюдательном Совете (по 1 члену от каждого органа власти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Каждая палата, а также представители государства имеют право вета, которое преодолевается 2/3 от общего числа 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4"/>
          <p:cNvSpPr/>
          <p:nvPr/>
        </p:nvSpPr>
        <p:spPr>
          <a:xfrm>
            <a:off x="2266920" y="3716280"/>
            <a:ext cx="12603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законодательного закрепления созданий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0" y="1341360"/>
            <a:ext cx="8856720" cy="47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квидация инвентарного парка подвижного состава требует изменения нормативно-правового и ценового регулирования в виду ограниченных возможностей государственного контроля в сфере рыночных отношений субъектов хозяйственной 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сутствие регулирования приведет к ущемлению интересов мелких продавцов услуг железнодорожного транспорта крупными  и фактической монополизации рынка отдельными «игроками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938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ры антимонопольного воздействия могут оказаться не достаточно эффективными в виду длительности/сложности процедуры их реализаци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еобходимо создать систем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РЕГУЛИРОВАНИЯ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заимодействий участников рынка на баз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коммерческой организации,  обеспечивающей соблюдение баланса интересов продавцов и покупателей при участи федеральных органов исполнительной в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объединения большинства участников рынка  в рамках организац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оторая возьмет на себя функции коммерческой  инфраструктуры рынка необходима соответствующая мотивац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обенно для крупных «игроков» на первоначальном этап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ую задачу  может решить только государство путем законодательного закрепления обязанности субъектов рынка создать/участвовать в работе оператора торговой системы (биржи) и других организаций коммерческой инфраструктуры рынка услуг ж/д транспор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1071720"/>
          <a:ext cx="9144000" cy="578628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8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7 от 10.01.2003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 железнодорожном транспорте в Российской Федерации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инципов сертификации услуг перевозчиков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6, пункт 5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формирования товарных рынков в сфере железнодорожного транспорта в целом и железнодорожных перевозок грузов, в част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саморегулирования и сорегулирования условий оборота услуг по перевозкам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выделения из общей массы услуг, оказываемых субъектом (субъектами) естественной монополии в сфере грузовых железнодорожных перевозок, таких услуг, оборот которых фактически осуществляется в условиях конкуренции, в том числе, при наличии доминирования некоторых субъект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1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дерегулирования тарифов (цен) на услуги, оборот которых осуществляется не в естественно-монопольной, а в конкурентной сфер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2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реализации услуг по перевозкам грузов железнодорожным транспортом и связанных с ними услуг при помощи организованных торг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нятия «гарантирующего перевозчика» применительно к оказанию услуг по перевозкам грузов, оборот которых осуществляется в конкурентном сегменте рын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2,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5, дополнительны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1071720"/>
          <a:ext cx="9144000" cy="581472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8 от 10.01.2003  «Устав железнодорожного транспорта РФ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01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распределения среди перевозчиков (квотирования) объемов перевозок грузов, не относящихся к конкурентному сегменту рынка, в случаях ограничения грузоотправителей в доступе к услугам по перевозкам железнодорожным транспортом в связи с установлением регулярного грузового дви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5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ключения договора перевозки между перевозчиком и грузоотправителем на основании сделки, заключенной по оферте перевозчика, в том числе, с помощью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6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предоставления грузовых вагонов оператором во фрахт перевозчику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нятия железнодорожных путей общего, а также железнодорожных путей необщего пользования временно не используемыми грузовыми вагонами, не принадлежащими владельцам указанных путей,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83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основных признаков перевозок грузов регулярными грузовыми поездами (регулярного грузового движения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 перечень вариантов железнодорожных отправок грузов «отправок в составе регулярного грузового поезд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к действующему закону № 13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2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предоставления ресурсов инфраструктуры железнодорожного транспорта общего пользования для осуществления перевозок грузов регулярными грузовыми поездами (для регулярного грузового движен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50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зацы 10, 11, 12, 13 дополнитель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143000"/>
          <a:ext cx="9144000" cy="5572080"/>
        </p:xfrm>
        <a:graphic>
          <a:graphicData uri="http://schemas.openxmlformats.org/drawingml/2006/table">
            <a:tbl>
              <a:tblPr/>
              <a:tblGrid>
                <a:gridCol w="3929040"/>
                <a:gridCol w="5214960"/>
              </a:tblGrid>
              <a:tr h="73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, предлагаемые в Положение об Общем тарифном съезде транспорт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ы По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67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проведения Тарифного съез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ю Тарифного съезда является, в том числе, обеспечение всестороннего рассмотрения вопросов, связанных с формированием коммерческой инфраструктуры рынка перевозок и связанных с ними усл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199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Тарифным съездом отраслей транспортно-дорожного комплек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могут созываться , в том числе, и по отдельным отраслям транспортно-дорожного комплекса (железнодорожному, морскому, речному, автомобильному, авиационному видам транспорта, а также строительству объектов транспортной инфраструктур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созыва Тарифных съез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созываются Министерством транспорта Р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мероприятий по созданию НП «Совет рынка железнодорожного транспорта» (НП «Совет РЖ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0" y="1071720"/>
          <a:ext cx="9144000" cy="5784840"/>
        </p:xfrm>
        <a:graphic>
          <a:graphicData uri="http://schemas.openxmlformats.org/drawingml/2006/table">
            <a:tbl>
              <a:tblPr/>
              <a:tblGrid>
                <a:gridCol w="428760"/>
                <a:gridCol w="5072040"/>
                <a:gridCol w="3643200"/>
              </a:tblGrid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 исполн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</a:tr>
              <a:tr h="760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Рабочей группы по созданию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Национальная ассоциации транспортников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финансирования работ по созданию НП «Совет РЖТ» за счет средств заинтересованных организаций и объединений предпринимателе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ОПОРА РОССИИ, АСКОП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е и регистрация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алат и рабочих органов НП «Совет РЖТ», прием новых член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211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реализация программного комплекса для отработки организованных торгов и внебиржевых торгов на площадке НП «Совет РЖТ»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Разработка алгоритмов (сценария) имитационных торгов на площадке НП «Совет РЖТ» на товарных секциях организованных торгов и внебиржевых торг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Отработка, проверка и сдача программных комплексов, имитирующих торги услугами по перевозкам грузов и иными связанными с ними услугами на товарных секциях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Учреждение площадки НП «Совет 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С России, Национальная ассоциации транспортников, ОАО «РЖД»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организационных документов и регламентов работы исполнительных органов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578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гласование изменений в План мероприятий по реализации Целевой модели рынка грузовых железнодорожных перевозо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нз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Содержимое 2" descr=""/>
          <p:cNvPicPr/>
          <p:nvPr/>
        </p:nvPicPr>
        <p:blipFill>
          <a:blip r:embed="rId1"/>
          <a:stretch/>
        </p:blipFill>
        <p:spPr>
          <a:xfrm>
            <a:off x="-6480" y="1139760"/>
            <a:ext cx="9156960" cy="572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3" name="Изображение 1" descr="1401277453-3429.png"/>
          <p:cNvPicPr/>
          <p:nvPr/>
        </p:nvPicPr>
        <p:blipFill>
          <a:blip r:embed="rId2"/>
          <a:stretch/>
        </p:blipFill>
        <p:spPr>
          <a:xfrm>
            <a:off x="3851280" y="5084640"/>
            <a:ext cx="141588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9"/>
          <p:cNvSpPr/>
          <p:nvPr/>
        </p:nvSpPr>
        <p:spPr>
          <a:xfrm>
            <a:off x="900000" y="2997360"/>
            <a:ext cx="7559640" cy="3744720"/>
          </a:xfrm>
          <a:prstGeom prst="rect">
            <a:avLst/>
          </a:prstGeom>
          <a:solidFill>
            <a:srgbClr val="29abd6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56800" y="1341360"/>
            <a:ext cx="75358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гика программного продукта построена по примеру уже существующих интернет-услуг, таких как продажа авиабилетов, бронь номера в гостинице или покупка товаров в интернет магазинах, что уже очень давно используется широким кругом людей для покупки услу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ходя из этого, основной критерий модуля при его создании – легкость в работе, доступ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од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Схема 10" descr=""/>
          <p:cNvPicPr/>
          <p:nvPr/>
        </p:nvPicPr>
        <p:blipFill>
          <a:blip r:embed="rId1"/>
          <a:stretch/>
        </p:blipFill>
        <p:spPr>
          <a:xfrm>
            <a:off x="1828800" y="3024360"/>
            <a:ext cx="5559480" cy="1633320"/>
          </a:xfrm>
          <a:prstGeom prst="rect">
            <a:avLst/>
          </a:prstGeom>
          <a:ln w="0">
            <a:noFill/>
          </a:ln>
        </p:spPr>
      </p:pic>
      <p:sp>
        <p:nvSpPr>
          <p:cNvPr id="248" name="Магнитный диск 12"/>
          <p:cNvSpPr/>
          <p:nvPr/>
        </p:nvSpPr>
        <p:spPr>
          <a:xfrm>
            <a:off x="3780000" y="5013360"/>
            <a:ext cx="1584000" cy="1655640"/>
          </a:xfrm>
          <a:prstGeom prst="flowChartMagneticDisk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9" name="Прямая со стрелкой 14"/>
          <p:cNvCxnSpPr>
            <a:stCxn id="248" idx="1"/>
            <a:endCxn id="248" idx="1"/>
          </p:cNvCxnSpPr>
          <p:nvPr/>
        </p:nvCxnSpPr>
        <p:spPr>
          <a:xfrm>
            <a:off x="4571640" y="5013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0" name="Прямая со стрелкой 17"/>
          <p:cNvCxnSpPr>
            <a:endCxn id="248" idx="1"/>
          </p:cNvCxnSpPr>
          <p:nvPr/>
        </p:nvCxnSpPr>
        <p:spPr>
          <a:xfrm>
            <a:off x="4571640" y="4508640"/>
            <a:ext cx="1080" cy="505440"/>
          </a:xfrm>
          <a:prstGeom prst="straightConnector1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1" name="Соединительная линия уступом 22"/>
          <p:cNvCxnSpPr>
            <a:stCxn id="248" idx="4"/>
          </p:cNvCxnSpPr>
          <p:nvPr/>
        </p:nvCxnSpPr>
        <p:spPr>
          <a:xfrm flipV="1">
            <a:off x="5363640" y="4652280"/>
            <a:ext cx="1080360" cy="118980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2" name="Соединительная линия уступом 30"/>
          <p:cNvCxnSpPr>
            <a:stCxn id="248" idx="2"/>
          </p:cNvCxnSpPr>
          <p:nvPr/>
        </p:nvCxnSpPr>
        <p:spPr>
          <a:xfrm rot="10800000">
            <a:off x="2770920" y="4580640"/>
            <a:ext cx="1008720" cy="126144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sp>
        <p:nvSpPr>
          <p:cNvPr id="253" name="TextBox 32"/>
          <p:cNvSpPr/>
          <p:nvPr/>
        </p:nvSpPr>
        <p:spPr>
          <a:xfrm>
            <a:off x="119232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3"/>
          <p:cNvSpPr/>
          <p:nvPr/>
        </p:nvSpPr>
        <p:spPr>
          <a:xfrm>
            <a:off x="652140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4"/>
          <p:cNvSpPr/>
          <p:nvPr/>
        </p:nvSpPr>
        <p:spPr>
          <a:xfrm>
            <a:off x="3713760" y="46530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сение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6"/>
          <p:cNvSpPr/>
          <p:nvPr/>
        </p:nvSpPr>
        <p:spPr>
          <a:xfrm rot="16200000">
            <a:off x="906840" y="356472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ВНИ ДОСТУП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TextBox 37"/>
          <p:cNvGrpSpPr/>
          <p:nvPr/>
        </p:nvGrpSpPr>
        <p:grpSpPr>
          <a:xfrm>
            <a:off x="5724360" y="6053040"/>
            <a:ext cx="3211560" cy="420840"/>
            <a:chOff x="5724360" y="6053040"/>
            <a:chExt cx="3211560" cy="420840"/>
          </a:xfrm>
        </p:grpSpPr>
        <p:pic>
          <p:nvPicPr>
            <p:cNvPr id="258" name="TextBox 37" descr=""/>
            <p:cNvPicPr/>
            <p:nvPr/>
          </p:nvPicPr>
          <p:blipFill>
            <a:blip r:embed="rId2"/>
            <a:stretch/>
          </p:blipFill>
          <p:spPr>
            <a:xfrm>
              <a:off x="5724360" y="6053040"/>
              <a:ext cx="32115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788080" y="6093000"/>
              <a:ext cx="30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ТРОЛЬ АДМИНИСТРАТОРО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579640" y="1699920"/>
            <a:ext cx="3313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а является первоочередным меню для грузовладельцев. С ее помощью, они с легкостью могут посмотреть загруженность близлежащих подъездных путей и найти необходимый для погрузки тип подвижного соста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дельцы подвижного состава с помощью карты смогут определить ближайший к их вагону путь необщего пользования и приобрести емкость на отстой ваг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а модул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интерактивная карта железных дор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195120" y="1432080"/>
            <a:ext cx="5364360" cy="335268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1384200" y="3260880"/>
            <a:ext cx="468360" cy="3301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ая соединительная линия 9"/>
          <p:cNvSpPr/>
          <p:nvPr/>
        </p:nvSpPr>
        <p:spPr>
          <a:xfrm flipH="1">
            <a:off x="1332000" y="3284640"/>
            <a:ext cx="50328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395280" y="3284640"/>
            <a:ext cx="1297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04040"/>
                </a:solidFill>
                <a:latin typeface="Arial"/>
                <a:ea typeface="Arial"/>
              </a:rPr>
              <a:t>Подъездной путь необщего пользовани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Схема 11" descr=""/>
          <p:cNvPicPr/>
          <p:nvPr/>
        </p:nvPicPr>
        <p:blipFill>
          <a:blip r:embed="rId3"/>
          <a:stretch/>
        </p:blipFill>
        <p:spPr>
          <a:xfrm>
            <a:off x="1487520" y="3597120"/>
            <a:ext cx="4084560" cy="2548080"/>
          </a:xfrm>
          <a:prstGeom prst="rect">
            <a:avLst/>
          </a:prstGeom>
          <a:ln w="0">
            <a:noFill/>
          </a:ln>
        </p:spPr>
      </p:pic>
      <p:pic>
        <p:nvPicPr>
          <p:cNvPr id="267" name="Изображение 12" descr="img_1404.jpg"/>
          <p:cNvPicPr/>
          <p:nvPr/>
        </p:nvPicPr>
        <p:blipFill>
          <a:blip r:embed="rId4"/>
          <a:stretch/>
        </p:blipFill>
        <p:spPr>
          <a:xfrm>
            <a:off x="2627280" y="1268280"/>
            <a:ext cx="1236600" cy="8240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3"/>
          <p:cNvSpPr/>
          <p:nvPr/>
        </p:nvSpPr>
        <p:spPr>
          <a:xfrm>
            <a:off x="2268360" y="2133720"/>
            <a:ext cx="19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владеле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09480" y="1213920"/>
            <a:ext cx="792504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вещании по вопросам развития угольной промышленности (г. Кемерово, 24.01.201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 Путин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улировал следующую задачу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целях координации работы и обеспечения баланса интересов участников рынка железнодорожных перевозок необходимо создать саморегулируемую организацию, аналогичную «Совету рынка», который действует в сфере электроэнергетик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имущества пользования моду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Изображение 4" descr="UT.120298administrator_512.png"/>
          <p:cNvPicPr/>
          <p:nvPr/>
        </p:nvPicPr>
        <p:blipFill>
          <a:blip r:embed="rId1"/>
          <a:stretch/>
        </p:blipFill>
        <p:spPr>
          <a:xfrm>
            <a:off x="971640" y="134136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395280" y="270828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вижного сост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Изображение 6" descr="is_shine_administrator.jpg"/>
          <p:cNvPicPr/>
          <p:nvPr/>
        </p:nvPicPr>
        <p:blipFill>
          <a:blip r:embed="rId2"/>
          <a:stretch/>
        </p:blipFill>
        <p:spPr>
          <a:xfrm>
            <a:off x="3851280" y="1413000"/>
            <a:ext cx="1368360" cy="12952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7"/>
          <p:cNvSpPr/>
          <p:nvPr/>
        </p:nvSpPr>
        <p:spPr>
          <a:xfrm>
            <a:off x="3132000" y="270828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узоотправит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Изображение 8" descr="user vv.png"/>
          <p:cNvPicPr/>
          <p:nvPr/>
        </p:nvPicPr>
        <p:blipFill>
          <a:blip r:embed="rId3"/>
          <a:stretch/>
        </p:blipFill>
        <p:spPr>
          <a:xfrm>
            <a:off x="6732720" y="1341360"/>
            <a:ext cx="1368360" cy="13384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9"/>
          <p:cNvSpPr/>
          <p:nvPr/>
        </p:nvSpPr>
        <p:spPr>
          <a:xfrm>
            <a:off x="6012000" y="270828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ъездных пу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Схема 11" descr=""/>
          <p:cNvPicPr/>
          <p:nvPr/>
        </p:nvPicPr>
        <p:blipFill>
          <a:blip r:embed="rId4"/>
          <a:stretch/>
        </p:blipFill>
        <p:spPr>
          <a:xfrm>
            <a:off x="5943600" y="2919240"/>
            <a:ext cx="3176640" cy="3110040"/>
          </a:xfrm>
          <a:prstGeom prst="rect">
            <a:avLst/>
          </a:prstGeom>
          <a:ln w="0">
            <a:noFill/>
          </a:ln>
        </p:spPr>
      </p:pic>
      <p:pic>
        <p:nvPicPr>
          <p:cNvPr id="277" name="Схема 14" descr=""/>
          <p:cNvPicPr/>
          <p:nvPr/>
        </p:nvPicPr>
        <p:blipFill>
          <a:blip r:embed="rId5"/>
          <a:stretch/>
        </p:blipFill>
        <p:spPr>
          <a:xfrm>
            <a:off x="2889360" y="3029040"/>
            <a:ext cx="3395520" cy="2390760"/>
          </a:xfrm>
          <a:prstGeom prst="rect">
            <a:avLst/>
          </a:prstGeom>
          <a:ln w="0">
            <a:noFill/>
          </a:ln>
        </p:spPr>
      </p:pic>
      <p:pic>
        <p:nvPicPr>
          <p:cNvPr id="278" name="Схема 15" descr=""/>
          <p:cNvPicPr/>
          <p:nvPr/>
        </p:nvPicPr>
        <p:blipFill>
          <a:blip r:embed="rId6"/>
          <a:stretch/>
        </p:blipFill>
        <p:spPr>
          <a:xfrm>
            <a:off x="-6480" y="3024360"/>
            <a:ext cx="3146400" cy="23526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6"/>
          <p:cNvSpPr/>
          <p:nvPr/>
        </p:nvSpPr>
        <p:spPr>
          <a:xfrm>
            <a:off x="611280" y="5732640"/>
            <a:ext cx="54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Владелец инфраструктуры общего пользования имеет возможность создать условия для временного элиминирования с сети излишнего вагонного пар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Изображение 17" descr="60036619-11275417-3d-puppet-with-exclamation-mark-isolated-over-white.jpg"/>
          <p:cNvPicPr/>
          <p:nvPr/>
        </p:nvPicPr>
        <p:blipFill>
          <a:blip r:embed="rId7"/>
          <a:stretch/>
        </p:blipFill>
        <p:spPr>
          <a:xfrm>
            <a:off x="108000" y="5516640"/>
            <a:ext cx="5871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- эффективный механизм сорегулирования производства, оборота услуг по перевозкам грузов, обеспечивающий недискриминационный доступ заинтересованных организаций на рынок для ведения предпринимательской деятельности, механизм защиты и развития конкуренции на данном рынке, а также механизм адекватного технического, тарифного и антимонопольного регулирования товарных рынков в сфере железнодорожного транспор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990720" y="533520"/>
            <a:ext cx="73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295280" y="2262240"/>
            <a:ext cx="685800" cy="691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577800" cy="533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3"/>
          <a:stretch/>
        </p:blipFill>
        <p:spPr>
          <a:xfrm>
            <a:off x="2268360" y="3789360"/>
            <a:ext cx="908280" cy="8380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2106720" y="23623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203640" y="31417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-boo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203640" y="3933720"/>
            <a:ext cx="537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rus_fas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fas_rf (eng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8" descr=""/>
          <p:cNvPicPr/>
          <p:nvPr/>
        </p:nvPicPr>
        <p:blipFill>
          <a:blip r:embed="rId4"/>
          <a:stretch/>
        </p:blipFill>
        <p:spPr>
          <a:xfrm>
            <a:off x="2340000" y="458136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9"/>
          <p:cNvSpPr/>
          <p:nvPr/>
        </p:nvSpPr>
        <p:spPr>
          <a:xfrm>
            <a:off x="3276720" y="4581360"/>
            <a:ext cx="252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ovk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10" descr=""/>
          <p:cNvPicPr/>
          <p:nvPr/>
        </p:nvPicPr>
        <p:blipFill>
          <a:blip r:embed="rId5"/>
          <a:stretch/>
        </p:blipFill>
        <p:spPr>
          <a:xfrm>
            <a:off x="2484360" y="5300640"/>
            <a:ext cx="550800" cy="5335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3348000" y="5229360"/>
            <a:ext cx="252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anticartel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2" descr=""/>
          <p:cNvPicPr/>
          <p:nvPr/>
        </p:nvPicPr>
        <p:blipFill>
          <a:blip r:embed="rId6"/>
          <a:stretch/>
        </p:blipFill>
        <p:spPr>
          <a:xfrm>
            <a:off x="4648320" y="2262240"/>
            <a:ext cx="685800" cy="7095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3"/>
          <p:cNvSpPr/>
          <p:nvPr/>
        </p:nvSpPr>
        <p:spPr>
          <a:xfrm>
            <a:off x="5459400" y="234144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emc.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116000" y="2997360"/>
            <a:ext cx="723888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1066680" y="2057400"/>
            <a:ext cx="723924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116C-D10F-4924-A4F9-F108F96AB994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3492360" y="5950080"/>
            <a:ext cx="49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international@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8" descr=""/>
          <p:cNvPicPr/>
          <p:nvPr/>
        </p:nvPicPr>
        <p:blipFill>
          <a:blip r:embed="rId7"/>
          <a:stretch/>
        </p:blipFill>
        <p:spPr>
          <a:xfrm>
            <a:off x="2428920" y="5929200"/>
            <a:ext cx="78588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307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4500720" y="1143000"/>
            <a:ext cx="4643280" cy="3143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4"/>
          <p:cNvSpPr/>
          <p:nvPr/>
        </p:nvSpPr>
        <p:spPr>
          <a:xfrm>
            <a:off x="0" y="4071960"/>
            <a:ext cx="457200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2010 г. темпы прироста грузооборота автомобильного транспорта начали превышать темпы прироста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2 г. прирост грузооборота автомобильного транспорта относительно 2008 г. в три раза превысил аналогичный темп прироста для ж/д транспорта (+15% против +5%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Росстата за 5 месяцев 2013 года грузооборот железнодорожного транспорта снизился на 3,5%, а грузооборот автомобильного транспорта вырос на 2,6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ИПЕМ, уход грузов с ж/д транспорта обойдется автодорогам в 4,9 млн дополнительных рейсов грузовых автомобилей в го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4572000" y="4395960"/>
            <a:ext cx="457200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снижения скорости доставки грузовых отправок на сети железных дорог вызывает серьезную обеспокоеннос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скорость доставки одной отправки грузов железнодорожным транспортом в 2012 г. сократилась по сравнению с 2008 г. на 71 км в сутки  и приблизилась к показателю 1986 г., составив при этом 219 км/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1071720"/>
            <a:ext cx="4518000" cy="521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4464000" y="1071720"/>
            <a:ext cx="4680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 - система нормативных правовых и нормативных технических актов, определяющих порядок оказания и оборота услуг по перевозкам грузов железнодорожным транспортом и связанных с ними услуг, договорных отношений между участниками рынка этих услуг, обычаев делового оборота (включая порядок обмена информацией между участниками рынка), а также система институтов рынка, в совокупности обеспечивающие необходимые условия для оборота услуг инфраструктуры, услуг по перевозкам грузов и повагонным перевозкам грузобагажа и иных, связанных с ними услуг, образуют коммерческую инфраструктуру рынка грузовых железнодорожных перевозок и связанных с ними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250920" y="1214280"/>
            <a:ext cx="8893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79280" y="1453680"/>
            <a:ext cx="871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ые торги, работающие по утвержденным правилам. В 2012 году ФАС России с участием ОАО «РЖД»,  представителей крупнейших грузоотправителей, операторов, проведены «модельные торги», которые показали работоспособность торговой площадки ваго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ся создать Совет рынка рынка грузовых железнодорожных перевозок, который на принципах «сорегулирования» готовит предложения по изменению нормативно-правовых актов в части, касающейся учета расширяющихся рыночных отношений, в замещение хозяйственно-административных отношений, закрепленных в ФЗ от 10.01.2003 № 18-ФЗ «Устав железнодорожного транспорта Российской Федерации», Правилах перевозок, утвержденных Минтрансом России (Правила рынк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 повед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создания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468360" y="1125360"/>
            <a:ext cx="3492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ПРОБЛЕ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ительная часть услуг по перевозке грузов выходит из-под тарифного регулир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68360" y="2565360"/>
            <a:ext cx="349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ующийся рынок уникален и характеризуется большим количеством участни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39640" y="4797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ществует риск подмены интересов всех участников рынка интересами его отдельных субъектов. (Пример СРО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4716360" y="1125360"/>
            <a:ext cx="3745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>
              <a:spcBef>
                <a:spcPts val="1125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здание коммерческой инфраструктуры рынка железнодорожных перевозок на многопалатной основе с  участием представителей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4643280" y="2852640"/>
            <a:ext cx="3816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блюдение баланса интересов грузоотправителей, операторов, перевозчиков и владельцев инфраструктуры железнодорожного транспорта при формировании  модели рынка грузовых перевозок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4572000" y="4437000"/>
            <a:ext cx="4068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ние справедливой системы рыночного ценообразования и оптимизация расчетов между субъектами рынка путем создания его коммерческой инфраструкту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39640" y="3500280"/>
            <a:ext cx="34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жнение конфигурации взаимодействия участников при сохранении устаревшей  нормативно-правовой баз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5"/>
          <p:cNvSpPr/>
          <p:nvPr/>
        </p:nvSpPr>
        <p:spPr>
          <a:xfrm>
            <a:off x="250920" y="1159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торговля услугами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00360" y="1125000"/>
            <a:ext cx="4174920" cy="3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 организованных тор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Прямоугольник 27"/>
          <p:cNvGrpSpPr/>
          <p:nvPr/>
        </p:nvGrpSpPr>
        <p:grpSpPr>
          <a:xfrm>
            <a:off x="5065560" y="3200400"/>
            <a:ext cx="2468880" cy="603360"/>
            <a:chOff x="5065560" y="3200400"/>
            <a:chExt cx="2468880" cy="603360"/>
          </a:xfrm>
        </p:grpSpPr>
        <p:pic>
          <p:nvPicPr>
            <p:cNvPr id="152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5065560" y="3200400"/>
              <a:ext cx="24688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076720" y="3213000"/>
              <a:ext cx="244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ованная торговая площад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Прямоугольник 29"/>
          <p:cNvGrpSpPr/>
          <p:nvPr/>
        </p:nvGrpSpPr>
        <p:grpSpPr>
          <a:xfrm>
            <a:off x="3193920" y="5145120"/>
            <a:ext cx="1822680" cy="743040"/>
            <a:chOff x="3193920" y="5145120"/>
            <a:chExt cx="1822680" cy="743040"/>
          </a:xfrm>
        </p:grpSpPr>
        <p:pic>
          <p:nvPicPr>
            <p:cNvPr id="155" name="Прямоугольник 29" descr=""/>
            <p:cNvPicPr/>
            <p:nvPr/>
          </p:nvPicPr>
          <p:blipFill>
            <a:blip r:embed="rId2"/>
            <a:stretch/>
          </p:blipFill>
          <p:spPr>
            <a:xfrm>
              <a:off x="3193920" y="5145120"/>
              <a:ext cx="18226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203640" y="5157720"/>
              <a:ext cx="180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узовые вагон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57" name="Прямая со стрелкой 31"/>
          <p:cNvCxnSpPr/>
          <p:nvPr/>
        </p:nvCxnSpPr>
        <p:spPr>
          <a:xfrm flipH="1">
            <a:off x="5002920" y="522900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58" name="Прямоугольник 35"/>
          <p:cNvSpPr/>
          <p:nvPr/>
        </p:nvSpPr>
        <p:spPr>
          <a:xfrm>
            <a:off x="5076720" y="5300640"/>
            <a:ext cx="1150920" cy="649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; собственник ваго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Прямая со стрелкой 37"/>
          <p:cNvCxnSpPr/>
          <p:nvPr/>
        </p:nvCxnSpPr>
        <p:spPr>
          <a:xfrm flipV="1">
            <a:off x="1692360" y="5660280"/>
            <a:ext cx="1512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grpSp>
        <p:nvGrpSpPr>
          <p:cNvPr id="160" name="Прямоугольник 38"/>
          <p:cNvGrpSpPr/>
          <p:nvPr/>
        </p:nvGrpSpPr>
        <p:grpSpPr>
          <a:xfrm>
            <a:off x="5065560" y="1401840"/>
            <a:ext cx="3048120" cy="1463760"/>
            <a:chOff x="5065560" y="1401840"/>
            <a:chExt cx="3048120" cy="1463760"/>
          </a:xfrm>
        </p:grpSpPr>
        <p:pic>
          <p:nvPicPr>
            <p:cNvPr id="161" name="Прямоугольник 38" descr=""/>
            <p:cNvPicPr/>
            <p:nvPr/>
          </p:nvPicPr>
          <p:blipFill>
            <a:blip r:embed="rId3"/>
            <a:stretch/>
          </p:blipFill>
          <p:spPr>
            <a:xfrm>
              <a:off x="5065560" y="1401840"/>
              <a:ext cx="304812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076720" y="1413000"/>
              <a:ext cx="3024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гулярные грузовые  железнодорожные перевозки,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скоренные контейнерные поезд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в изотермических вагона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грузобагажа (грузобагажные и почтовобагажные поезда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Прямоугольник 42"/>
          <p:cNvSpPr/>
          <p:nvPr/>
        </p:nvSpPr>
        <p:spPr>
          <a:xfrm>
            <a:off x="1692360" y="5805360"/>
            <a:ext cx="1512720" cy="50328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;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4" name="Прямая со стрелкой 43"/>
          <p:cNvCxnSpPr/>
          <p:nvPr/>
        </p:nvCxnSpPr>
        <p:spPr>
          <a:xfrm>
            <a:off x="4140000" y="1915920"/>
            <a:ext cx="937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5" name="Прямоугольник 46"/>
          <p:cNvSpPr/>
          <p:nvPr/>
        </p:nvSpPr>
        <p:spPr>
          <a:xfrm>
            <a:off x="3995640" y="2060640"/>
            <a:ext cx="1008000" cy="431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зоотпра-вител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Прямая со стрелкой 48"/>
          <p:cNvCxnSpPr/>
          <p:nvPr/>
        </p:nvCxnSpPr>
        <p:spPr>
          <a:xfrm flipH="1">
            <a:off x="8100720" y="1915920"/>
            <a:ext cx="862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7" name="Прямоугольник 49"/>
          <p:cNvSpPr/>
          <p:nvPr/>
        </p:nvSpPr>
        <p:spPr>
          <a:xfrm>
            <a:off x="8136000" y="1989000"/>
            <a:ext cx="1008000" cy="28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Прямоугольник 50"/>
          <p:cNvGrpSpPr/>
          <p:nvPr/>
        </p:nvGrpSpPr>
        <p:grpSpPr>
          <a:xfrm>
            <a:off x="5353200" y="6151680"/>
            <a:ext cx="2041200" cy="530280"/>
            <a:chOff x="5353200" y="6151680"/>
            <a:chExt cx="2041200" cy="530280"/>
          </a:xfrm>
        </p:grpSpPr>
        <p:pic>
          <p:nvPicPr>
            <p:cNvPr id="169" name="Прямоугольник 50" descr=""/>
            <p:cNvPicPr/>
            <p:nvPr/>
          </p:nvPicPr>
          <p:blipFill>
            <a:blip r:embed="rId4"/>
            <a:stretch/>
          </p:blipFill>
          <p:spPr>
            <a:xfrm>
              <a:off x="5353200" y="6151680"/>
              <a:ext cx="20412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364000" y="6165720"/>
              <a:ext cx="20163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комотивная тяга (перспектива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Прямоугольник 52"/>
          <p:cNvGrpSpPr/>
          <p:nvPr/>
        </p:nvGrpSpPr>
        <p:grpSpPr>
          <a:xfrm>
            <a:off x="7510320" y="4498920"/>
            <a:ext cx="1646280" cy="743040"/>
            <a:chOff x="7510320" y="4498920"/>
            <a:chExt cx="1646280" cy="743040"/>
          </a:xfrm>
        </p:grpSpPr>
        <p:pic>
          <p:nvPicPr>
            <p:cNvPr id="172" name="Прямоугольник 52" descr=""/>
            <p:cNvPicPr/>
            <p:nvPr/>
          </p:nvPicPr>
          <p:blipFill>
            <a:blip r:embed="rId5"/>
            <a:stretch/>
          </p:blipFill>
          <p:spPr>
            <a:xfrm>
              <a:off x="7510320" y="4498920"/>
              <a:ext cx="16462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524720" y="4508640"/>
              <a:ext cx="1619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оставление вагономес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Прямоугольник 55"/>
          <p:cNvSpPr/>
          <p:nvPr/>
        </p:nvSpPr>
        <p:spPr>
          <a:xfrm>
            <a:off x="7667640" y="3500280"/>
            <a:ext cx="1476360" cy="79056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, владельцы вагонов,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Прямая со стрелкой 57"/>
          <p:cNvCxnSpPr/>
          <p:nvPr/>
        </p:nvCxnSpPr>
        <p:spPr>
          <a:xfrm flipV="1">
            <a:off x="8459280" y="5300280"/>
            <a:ext cx="1080" cy="21816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76" name="Прямоугольник 59"/>
          <p:cNvSpPr/>
          <p:nvPr/>
        </p:nvSpPr>
        <p:spPr>
          <a:xfrm>
            <a:off x="7667640" y="551664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инфраструк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Прямая со стрелкой 66"/>
          <p:cNvCxnSpPr/>
          <p:nvPr/>
        </p:nvCxnSpPr>
        <p:spPr>
          <a:xfrm flipH="1" flipV="1">
            <a:off x="6300000" y="2851920"/>
            <a:ext cx="1080" cy="361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78" name="Прямая со стрелкой 81"/>
          <p:cNvCxnSpPr/>
          <p:nvPr/>
        </p:nvCxnSpPr>
        <p:spPr>
          <a:xfrm>
            <a:off x="8459280" y="4292640"/>
            <a:ext cx="1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179" name="Прямая со стрелкой 92"/>
          <p:cNvCxnSpPr/>
          <p:nvPr/>
        </p:nvCxnSpPr>
        <p:spPr>
          <a:xfrm>
            <a:off x="6300360" y="3789000"/>
            <a:ext cx="1080" cy="2377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0" name="Прямая со стрелкой 98"/>
          <p:cNvCxnSpPr/>
          <p:nvPr/>
        </p:nvCxnSpPr>
        <p:spPr>
          <a:xfrm>
            <a:off x="6300720" y="3789000"/>
            <a:ext cx="1224720" cy="108036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1" name="Прямая со стрелкой 103"/>
          <p:cNvCxnSpPr/>
          <p:nvPr/>
        </p:nvCxnSpPr>
        <p:spPr>
          <a:xfrm flipH="1">
            <a:off x="5002920" y="3789000"/>
            <a:ext cx="1297800" cy="1369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82" name="Rectangle 15"/>
          <p:cNvSpPr/>
          <p:nvPr/>
        </p:nvSpPr>
        <p:spPr>
          <a:xfrm>
            <a:off x="0" y="3500280"/>
            <a:ext cx="1008000" cy="79236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РЖД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042920" y="3500280"/>
            <a:ext cx="649440" cy="792360"/>
          </a:xfrm>
          <a:prstGeom prst="rect">
            <a:avLst/>
          </a:prstGeom>
          <a:solidFill>
            <a:srgbClr val="c6d9f1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Соединительная линия уступом 15"/>
          <p:cNvCxnSpPr>
            <a:endCxn id="185" idx="3"/>
          </p:cNvCxnSpPr>
          <p:nvPr/>
        </p:nvCxnSpPr>
        <p:spPr>
          <a:xfrm flipV="1" rot="16200000">
            <a:off x="2744640" y="2339280"/>
            <a:ext cx="1080000" cy="4514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lg" type="stealth" w="lg"/>
          </a:ln>
        </p:spPr>
      </p:cxnSp>
      <p:cxnSp>
        <p:nvCxnSpPr>
          <p:cNvPr id="186" name="Прямая со стрелкой 25"/>
          <p:cNvCxnSpPr/>
          <p:nvPr/>
        </p:nvCxnSpPr>
        <p:spPr>
          <a:xfrm flipH="1">
            <a:off x="1692000" y="3860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7" name="Прямая со стрелкой 12"/>
          <p:cNvCxnSpPr>
            <a:endCxn id="188" idx="3"/>
          </p:cNvCxnSpPr>
          <p:nvPr/>
        </p:nvCxnSpPr>
        <p:spPr>
          <a:xfrm flipH="1">
            <a:off x="3058560" y="242064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9" name="Соединительная линия уступом 23"/>
          <p:cNvCxnSpPr>
            <a:stCxn id="182" idx="2"/>
            <a:endCxn id="190" idx="1"/>
          </p:cNvCxnSpPr>
          <p:nvPr/>
        </p:nvCxnSpPr>
        <p:spPr>
          <a:xfrm flipH="1" rot="16200000">
            <a:off x="898920" y="3897000"/>
            <a:ext cx="469080" cy="12596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176720" cy="35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щий«Внебиржевой» се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Прямая соединительная линия 160" descr=""/>
          <p:cNvPicPr/>
          <p:nvPr/>
        </p:nvPicPr>
        <p:blipFill>
          <a:blip r:embed="rId6"/>
          <a:stretch/>
        </p:blipFill>
        <p:spPr>
          <a:xfrm>
            <a:off x="3790800" y="1127160"/>
            <a:ext cx="32040" cy="4041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61"/>
          <p:cNvSpPr/>
          <p:nvPr/>
        </p:nvSpPr>
        <p:spPr>
          <a:xfrm>
            <a:off x="0" y="5013360"/>
            <a:ext cx="28432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нется работа не по регулируемым ценам (тарифам), а по индикаторам  цен организованных торгов, в том чи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н перевозк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луг предоставл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онов, локомотивов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й необщ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Прямая соединительная линия 174" descr=""/>
          <p:cNvPicPr/>
          <p:nvPr/>
        </p:nvPicPr>
        <p:blipFill>
          <a:blip r:embed="rId7"/>
          <a:stretch/>
        </p:blipFill>
        <p:spPr>
          <a:xfrm>
            <a:off x="3790800" y="5877000"/>
            <a:ext cx="32040" cy="58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2" descr=""/>
          <p:cNvPicPr/>
          <p:nvPr/>
        </p:nvPicPr>
        <p:blipFill>
          <a:blip r:embed="rId8"/>
          <a:stretch/>
        </p:blipFill>
        <p:spPr>
          <a:xfrm>
            <a:off x="2987640" y="3141720"/>
            <a:ext cx="793800" cy="1297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1"/>
          <p:cNvSpPr/>
          <p:nvPr/>
        </p:nvSpPr>
        <p:spPr>
          <a:xfrm>
            <a:off x="1763640" y="2349360"/>
            <a:ext cx="1295640" cy="1429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1763640" y="1773360"/>
            <a:ext cx="129564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ависимые операто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1763640" y="4508640"/>
            <a:ext cx="122400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Ф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1763640" y="2637000"/>
            <a:ext cx="1295640" cy="43164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П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Прямая со стрелкой 12"/>
          <p:cNvCxnSpPr/>
          <p:nvPr/>
        </p:nvCxnSpPr>
        <p:spPr>
          <a:xfrm flipH="1">
            <a:off x="3058560" y="285228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98" name="Соединительная линия уступом 15"/>
          <p:cNvCxnSpPr>
            <a:stCxn id="185" idx="1"/>
            <a:endCxn id="182" idx="0"/>
          </p:cNvCxnSpPr>
          <p:nvPr/>
        </p:nvCxnSpPr>
        <p:spPr>
          <a:xfrm flipV="1" rot="10800000">
            <a:off x="504000" y="2025360"/>
            <a:ext cx="1259640" cy="14752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9" name="Прямая со стрелкой 12"/>
          <p:cNvCxnSpPr/>
          <p:nvPr/>
        </p:nvCxnSpPr>
        <p:spPr>
          <a:xfrm flipH="1">
            <a:off x="468000" y="2852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0" name="Прямая со стрелкой 12"/>
          <p:cNvCxnSpPr/>
          <p:nvPr/>
        </p:nvCxnSpPr>
        <p:spPr>
          <a:xfrm flipH="1">
            <a:off x="468000" y="242064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1" name="Соединительная линия уступом 15"/>
          <p:cNvCxnSpPr>
            <a:endCxn id="190" idx="3"/>
          </p:cNvCxnSpPr>
          <p:nvPr/>
        </p:nvCxnSpPr>
        <p:spPr>
          <a:xfrm rot="5400000">
            <a:off x="3060000" y="4365360"/>
            <a:ext cx="322920" cy="4690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02" name="Прямоугольник 109"/>
          <p:cNvSpPr/>
          <p:nvPr/>
        </p:nvSpPr>
        <p:spPr>
          <a:xfrm>
            <a:off x="7524720" y="642636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локомоти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Прямая со стрелкой 110"/>
          <p:cNvCxnSpPr/>
          <p:nvPr/>
        </p:nvCxnSpPr>
        <p:spPr>
          <a:xfrm flipH="1">
            <a:off x="7379640" y="6308280"/>
            <a:ext cx="1585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204" name="Прямоугольник 112"/>
          <p:cNvSpPr/>
          <p:nvPr/>
        </p:nvSpPr>
        <p:spPr>
          <a:xfrm>
            <a:off x="4067280" y="6524640"/>
            <a:ext cx="1296720" cy="217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5" name="Прямая со стрелкой 113"/>
          <p:cNvCxnSpPr/>
          <p:nvPr/>
        </p:nvCxnSpPr>
        <p:spPr>
          <a:xfrm flipV="1">
            <a:off x="4284720" y="6452640"/>
            <a:ext cx="1080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Заголовок 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орговой площадки К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Блок-схема: процесс 15"/>
          <p:cNvSpPr/>
          <p:nvPr/>
        </p:nvSpPr>
        <p:spPr>
          <a:xfrm>
            <a:off x="3714840" y="3214800"/>
            <a:ext cx="1871640" cy="129528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Выноска 1 (граница и черта) 16"/>
          <p:cNvSpPr/>
          <p:nvPr/>
        </p:nvSpPr>
        <p:spPr>
          <a:xfrm>
            <a:off x="6378480" y="2278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пределение сквозной ставки на перевоз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Выноска 1 (граница и черта) 17"/>
          <p:cNvSpPr/>
          <p:nvPr/>
        </p:nvSpPr>
        <p:spPr>
          <a:xfrm>
            <a:off x="906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-2056"/>
                </a:moveTo>
                <a:lnTo>
                  <a:pt x="23017" y="18278"/>
                </a:lnTo>
              </a:path>
              <a:path w="21600" h="21600">
                <a:moveTo>
                  <a:pt x="23017" y="0"/>
                </a:moveTo>
                <a:lnTo>
                  <a:pt x="23017" y="21600"/>
                </a:lnTo>
              </a:path>
            </a:pathLst>
          </a:cu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слуги железнодорожных терминалов и ППЖТ по обработке груз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Выноска 1 (граница и черта) 18"/>
          <p:cNvSpPr/>
          <p:nvPr/>
        </p:nvSpPr>
        <p:spPr>
          <a:xfrm>
            <a:off x="906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12" y="7973"/>
                </a:moveTo>
                <a:lnTo>
                  <a:pt x="22923" y="7782"/>
                </a:lnTo>
              </a:path>
              <a:path w="21600" h="21600">
                <a:moveTo>
                  <a:pt x="22923" y="0"/>
                </a:moveTo>
                <a:lnTo>
                  <a:pt x="22923" y="21600"/>
                </a:lnTo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дажа твердых ниток граф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Выноска 1 (граница и черта) 19"/>
          <p:cNvSpPr/>
          <p:nvPr/>
        </p:nvSpPr>
        <p:spPr>
          <a:xfrm>
            <a:off x="6378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13" y="7740"/>
                </a:moveTo>
                <a:lnTo>
                  <a:pt x="-1800" y="778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ременное размещение вагонов на подъездных путях общего и не общего пользо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Выноска 1 (граница и черта) 20"/>
          <p:cNvSpPr/>
          <p:nvPr/>
        </p:nvSpPr>
        <p:spPr>
          <a:xfrm>
            <a:off x="906480" y="2351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21501"/>
                </a:moveTo>
                <a:lnTo>
                  <a:pt x="22830" y="9648"/>
                </a:lnTo>
              </a:path>
              <a:path w="21600" h="21600">
                <a:moveTo>
                  <a:pt x="22830" y="0"/>
                </a:moveTo>
                <a:lnTo>
                  <a:pt x="22830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ие подвижного сост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Выноска 1 (граница и черта) 21"/>
          <p:cNvSpPr/>
          <p:nvPr/>
        </p:nvSpPr>
        <p:spPr>
          <a:xfrm>
            <a:off x="6378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00" y="-2522"/>
                </a:moveTo>
                <a:lnTo>
                  <a:pt x="-1893" y="17578"/>
                </a:lnTo>
              </a:path>
              <a:path w="21600" h="21600">
                <a:moveTo>
                  <a:pt x="-1893" y="0"/>
                </a:moveTo>
                <a:lnTo>
                  <a:pt x="-1893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е предоставление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ковенко Наталия Юрьевна</dc:creator>
  <dc:description/>
  <dc:language>en-US</dc:language>
  <cp:lastModifiedBy>Яковенко Наталия Юрьевна</cp:lastModifiedBy>
  <dcterms:modified xsi:type="dcterms:W3CDTF">2014-11-11T07:44:25Z</dcterms:modified>
  <cp:revision>2003</cp:revision>
  <dc:subject/>
  <dc:title>Презентация PowerPoint</dc:title>
</cp:coreProperties>
</file>