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6E54-731C-4410-828E-4B6BF1F79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E0A3-217C-41E1-B440-1DF71F60C7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68A2-8B5A-4EDE-89CA-23B2725282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6E8C-7D34-445A-A6F9-71B6B5BA9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7E01-1069-44DD-9E86-E2CE0FA98C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B36F-D89A-4C5E-95EC-3627D0998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6D51-556F-4DD6-8A17-EB777CE93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4808-6D13-4109-9C3C-79CD56C92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DFE7-3007-4F13-8753-CA47238AC7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C884-42A1-4F90-AB63-DE2D70E4DC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D4E1-348A-43F7-8408-E5460A2B84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62F3-10FA-4125-9BD4-546D7B8EF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385C-686F-445E-B07D-3B0FAD3A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CA92-F05D-451E-9AEE-37384E10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1E2-8EC6-4859-8226-E7DE4636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A79-F527-48EF-BE6C-463F39F2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F65-4CFE-45A5-AABC-359C434F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B1A-8E4E-4230-8642-C66738F2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8A11-F158-453A-9CD9-6B7831CF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8DF-2346-4CDA-8405-54494F03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445-2FAF-4BFC-98D6-CD583B9B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85E3-F705-4392-B2A2-4D60C907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6F37-6FB6-4591-A5C1-61F0190D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005-1D84-446F-A661-CBC5B496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BDBF-198B-4789-9FC7-650DF0CDE9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50920" y="765000"/>
            <a:ext cx="8642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ммерческое объединение производителей и потреб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родных строитель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"/>
          <p:cNvSpPr/>
          <p:nvPr/>
        </p:nvSpPr>
        <p:spPr>
          <a:xfrm>
            <a:off x="250920" y="407664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0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546840" y="7444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КРАИНСКИЙ ЩЕБ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6" descr=""/>
          <p:cNvPicPr/>
          <p:nvPr/>
        </p:nvPicPr>
        <p:blipFill>
          <a:blip r:embed="rId1"/>
          <a:stretch/>
        </p:blipFill>
        <p:spPr>
          <a:xfrm>
            <a:off x="0" y="1231920"/>
            <a:ext cx="9144000" cy="3894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89760" y="5373720"/>
            <a:ext cx="59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егодняшний день поста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ыше 20 млн.т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%) на сумм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ее 22 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00040" y="857160"/>
            <a:ext cx="831996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54120" y="2421000"/>
            <a:ext cx="8001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Ассоциация _Недра"/>
          <p:cNvPicPr/>
          <p:nvPr/>
        </p:nvPicPr>
        <p:blipFill>
          <a:blip r:embed="rId1"/>
          <a:stretch/>
        </p:blipFill>
        <p:spPr>
          <a:xfrm>
            <a:off x="2122560" y="5024520"/>
            <a:ext cx="695160" cy="7412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2470320" y="5013360"/>
            <a:ext cx="534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ссоциация «Недра» г.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www.nedra2004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nedra2004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.(499)685-15-76, (499)685-11-27, 685-11-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98600" y="1069200"/>
            <a:ext cx="814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еревозках грузов железнодорожным транспортом в сегменте повагонных и мелких групповых отпра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нерудные строительные материал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4849920" y="4941720"/>
            <a:ext cx="421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ргеев В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нительный директор ассоциации «Нед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5800" y="3067200"/>
          <a:ext cx="8229600" cy="1301760"/>
        </p:xfrm>
        <a:graphic>
          <a:graphicData uri="http://schemas.openxmlformats.org/drawingml/2006/table">
            <a:tbl>
              <a:tblPr/>
              <a:tblGrid>
                <a:gridCol w="141300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  <a:gridCol w="568440"/>
                <a:gridCol w="568440"/>
                <a:gridCol w="566640"/>
                <a:gridCol w="568440"/>
                <a:gridCol w="568080"/>
              </a:tblGrid>
              <a:tr h="433080">
                <a:tc rowSpan="2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Продук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7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Объемы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В % к докризисному объему произво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27120">
                <a:tc>
                  <a:txBody>
                    <a:bodyPr lIns="24120" rIns="24120" tIns="24120" bIns="241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Материалы строительные неруд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9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6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11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7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1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7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8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24120" rIns="24120" tIns="24120" bIns="241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4120" marR="24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920" rIns="7920" tIns="7920" bIns="7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  <a:ea typeface="Calibri"/>
                        </a:rPr>
                        <a:t>92-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2" name="Rectangle 2"/>
          <p:cNvSpPr/>
          <p:nvPr/>
        </p:nvSpPr>
        <p:spPr>
          <a:xfrm>
            <a:off x="442800" y="1677240"/>
            <a:ext cx="814716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Объемы производства нерудных строительных материал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2007-2014 гг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(млн.куб.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5120" y="2633760"/>
          <a:ext cx="8229600" cy="1658880"/>
        </p:xfrm>
        <a:graphic>
          <a:graphicData uri="http://schemas.openxmlformats.org/drawingml/2006/table">
            <a:tbl>
              <a:tblPr/>
              <a:tblGrid>
                <a:gridCol w="1370160"/>
                <a:gridCol w="792000"/>
                <a:gridCol w="720720"/>
                <a:gridCol w="936720"/>
                <a:gridCol w="792000"/>
                <a:gridCol w="935280"/>
                <a:gridCol w="792000"/>
                <a:gridCol w="936720"/>
                <a:gridCol w="954000"/>
              </a:tblGrid>
              <a:tr h="99540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рогноз был 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0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(по итога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0 месяце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480">
                <a:tc>
                  <a:txBody>
                    <a:bodyPr lIns="58320" rIns="58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Доля железной дороги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Более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4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0,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7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66" name="Rectangle 1"/>
          <p:cNvSpPr/>
          <p:nvPr/>
        </p:nvSpPr>
        <p:spPr>
          <a:xfrm>
            <a:off x="441360" y="1147320"/>
            <a:ext cx="821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Доля железной дороги в перевозке нерудных 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(в % от общего объема производст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Диаграмма 7"/>
          <p:cNvGraphicFramePr/>
          <p:nvPr/>
        </p:nvGraphicFramePr>
        <p:xfrm>
          <a:off x="100080" y="1793880"/>
          <a:ext cx="9094680" cy="36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Диаграмма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793880"/>
                    <a:ext cx="90946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Box 1"/>
          <p:cNvSpPr/>
          <p:nvPr/>
        </p:nvSpPr>
        <p:spPr>
          <a:xfrm>
            <a:off x="1285560" y="1125360"/>
            <a:ext cx="72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водство НСМ (млн. куб.м) и темпы погрузки на сети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"/>
          <p:cNvPicPr/>
          <p:nvPr/>
        </p:nvPicPr>
        <p:blipFill>
          <a:blip r:embed="rId1"/>
          <a:stretch/>
        </p:blipFill>
        <p:spPr>
          <a:xfrm>
            <a:off x="530280" y="3067200"/>
            <a:ext cx="8083440" cy="2681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539640" y="898560"/>
            <a:ext cx="792000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е смотря на такое снижение объемов перевозок ж/д транспортом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развитие рынка услуг для перевозок насыпных грузов ост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приоритетным в планах развития ОАО РЖ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з доклада Бабаева С.М. «Перевозочный процес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овые подходы к повышению качества обслуживания клиент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на конференции «Рынок транспортных услуг: взаимодействие и партнерств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Что стало причинами снижения объемов перевозок ж/д транспрорто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общее снижение объемов производства неруд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объемов использования местного сырья в пределах одного регио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ост тарифов на перевозки ж/д транспортом (часто нерегулируемы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- ряд других причин, 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ГЛАВНАЯ ПРИЧИНА – ТАРИФ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Наиболее серьезно влияют на снижение объемов перевозок тарифы не РЖД, а частных опера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Используя демпинговые тарифы (-10 – 20% от Прейскуранта 10-01) они «уводят» грузовладельцев от РЖД, а в случае изменения ситуации на рынке – оставля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мер – прошлогодний всплеск тарифов в августе-сентябре на вагонную составляющую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а – возврат РЖД около 100 тысяч вагонов парка ВСП их владельцу ФГ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ричиной этого всплеска стал не только рост тарифов ФГК, а фактичес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мультипликативный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эффект от возврата к реальным тарифам частных операторов (которые везли грузы по ставке минус 20% к Прейскуранту 10-01) и уже названный рост тарифов ФГК, что в результате составил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олее 37%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всем направления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9810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7120" y="765000"/>
            <a:ext cx="83203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57120" y="765000"/>
            <a:ext cx="84628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 расчетам ОАО "НИИАС",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избыток парка грузовых вагон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на сети ОАО "РЖД" в текущем году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составил 232 тыс. вагонов или 20% пар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, что в условиях дефицита инфраструктуры крайне негативно влияет на работу железнодорожного транспорта. При этом потери несет не только ОАО "РЖД", но и остальные участники перевозочного процесса. По оценкам специалистов, за 9 месяцев текущего год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отер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 операторского сообщества, грузоотправителей и грузополучателе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составили более 34 млрд рубле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Такие данные привел старший вице-президент ОАО "РЖД” Анатолий Красношек. выступая в рамках пленарной дискуссии XII международной конференции "Рынок транспортных услуг: взаимодействие и партнерство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4178160" cy="2227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4932360" y="3413160"/>
            <a:ext cx="345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снову этого «избыточного» парка составляют (будут составлять) вагоны частных операторов и в любой момент грузовладельцы, пользующиеся их услугами могут оказаться у «разбитого корыт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87480" y="5508720"/>
            <a:ext cx="720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Таких примеров множество, а результат всегда один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за все заплатит грузовладелец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71280"/>
            <a:ext cx="9144000" cy="691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АССОЦИАЦИЯ «НЕДРА»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6237360"/>
            <a:ext cx="9144000" cy="673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SOCIATION NEDR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357120" y="928800"/>
            <a:ext cx="83203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539640" y="744480"/>
            <a:ext cx="8137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Что необходимо (возможно) сделать для нормализации и улучшения ситуаци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Учитывая, что сложившиеся тарифы на перевозку у частных операторов сегодня составляют 75-80% от тарифов Прейскуранта 10-01,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предприятия отрасли считают возможным обсудить вариант заключения долгосрочных договоров при условии применения гибких скидок в размере не менее 75% от скидок частных операторов на данном направлении перевоз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пример, ставка частного оператора на данном направлении составляет 80% от тарифа Прейскуранта 10-01, предлагаемая ЦФТО ставка должна быть не более 85% от тарифа Прейскуранта 10-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Предлагаемый подход к определению размеров тарифных ставок будет способствовать привлечению предприятий отрасли к заключению долгосрочных договоров, окажет стабилизирующее воздействие на цены на рынке железнодорожных перевозок природных строительных материалов, обеспечит ОАО «РЖД» получение стабильного дохода при перевозке данного класса груз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2520" indent="44280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7:55:29Z</dcterms:created>
  <dc:creator>Катя</dc:creator>
  <dc:description/>
  <dc:language>en-US</dc:language>
  <cp:lastModifiedBy>VSergeev</cp:lastModifiedBy>
  <cp:lastPrinted>2013-09-21T16:11:20Z</cp:lastPrinted>
  <dcterms:modified xsi:type="dcterms:W3CDTF">2014-11-12T07:01:40Z</dcterms:modified>
  <cp:revision>109</cp:revision>
  <dc:subject/>
  <dc:title>Слайд 1</dc:title>
</cp:coreProperties>
</file>