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768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768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A074-0F36-49C9-BF2C-38922EE9E3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00B8-36A8-4244-A9F2-8B1BA2C0C9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50EA-703F-4290-AA1E-49007F87D4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E440-9B13-417F-A6BD-CDFA8C467B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7AEB911-F374-4FC2-B643-830A3F8615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0BB5-D160-4B36-A5F6-4A94F4040D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5C30-0184-4648-B745-1FA687D08C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454C-E777-4846-A57D-33E6CBAC54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855D-11BE-4054-842B-775D8D56F7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631F-4518-4409-B708-BF575B7B53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2542-A3EF-4191-92E7-7355993C48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B0F7-2D93-4012-AE82-0D1201E25C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7A4B-C36A-499C-91F8-750FE28898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305C-9D35-4144-ADBB-1F520E6B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F1C0-E65B-40BA-9C71-B2406CC1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D319-5F36-4E6A-BD53-38AAD3B5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0FB5-CBA2-453A-87CB-0C229A6B3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F76B-F2A2-4DD4-A3E2-5F47CA6E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DD2F-DB48-4FCB-A183-B7AEE17F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1B39-D0DD-4A7D-AEAC-1E7CD469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9DD3-35E5-4FB4-87C4-0676A044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D20D-7347-4D62-AD38-CA59B011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37FF-A9DC-4CF1-BAC0-F6AB747B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EC18-B70B-45D0-8194-8D174B79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48F4-8A64-4512-9AB9-1F8ECBFE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76ED-3B4D-4316-B5FA-601C45BB5E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3478680" y="6248520"/>
            <a:ext cx="2170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Lucida Sans"/>
              </a:rPr>
              <a:t>12</a:t>
            </a:r>
            <a:r>
              <a:rPr b="1" lang="en-US" sz="1800" spc="-1" strike="noStrike">
                <a:solidFill>
                  <a:srgbClr val="7f7f7f"/>
                </a:solidFill>
                <a:latin typeface="Lucida Sans"/>
              </a:rPr>
              <a:t> </a:t>
            </a:r>
            <a:r>
              <a:rPr b="1" lang="ru-RU" sz="1800" spc="-1" strike="noStrike">
                <a:solidFill>
                  <a:srgbClr val="7f7f7f"/>
                </a:solidFill>
                <a:latin typeface="Lucida Sans"/>
              </a:rPr>
              <a:t>ноября </a:t>
            </a:r>
            <a:r>
              <a:rPr b="1" lang="en-US" sz="1800" spc="-1" strike="noStrike">
                <a:solidFill>
                  <a:srgbClr val="7f7f7f"/>
                </a:solidFill>
                <a:latin typeface="Lucida Sans"/>
              </a:rPr>
              <a:t>201</a:t>
            </a:r>
            <a:r>
              <a:rPr b="1" lang="ru-RU" sz="1800" spc="-1" strike="noStrike">
                <a:solidFill>
                  <a:srgbClr val="7f7f7f"/>
                </a:solidFill>
                <a:latin typeface="Lucida Sans"/>
              </a:rPr>
              <a:t>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0" y="1447920"/>
            <a:ext cx="9144000" cy="45720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36320" y="1909800"/>
            <a:ext cx="6705720" cy="27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 тарифных и нетарифных факторах ценового давления на грузовладель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металлургия 2"/>
          <p:cNvPicPr/>
          <p:nvPr/>
        </p:nvPicPr>
        <p:blipFill>
          <a:blip r:embed="rId1"/>
          <a:srcRect l="0" t="6842" r="0" b="5797"/>
          <a:stretch/>
        </p:blipFill>
        <p:spPr>
          <a:xfrm>
            <a:off x="237960" y="1523880"/>
            <a:ext cx="1752840" cy="139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рулон 2"/>
          <p:cNvPicPr/>
          <p:nvPr/>
        </p:nvPicPr>
        <p:blipFill>
          <a:blip r:embed="rId2"/>
          <a:srcRect l="0" t="0" r="8718" b="6936"/>
          <a:stretch/>
        </p:blipFill>
        <p:spPr>
          <a:xfrm>
            <a:off x="219240" y="3048120"/>
            <a:ext cx="1752480" cy="1401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руссталь"/>
          <p:cNvPicPr/>
          <p:nvPr/>
        </p:nvPicPr>
        <p:blipFill>
          <a:blip r:embed="rId3"/>
          <a:stretch/>
        </p:blipFill>
        <p:spPr>
          <a:xfrm>
            <a:off x="7010280" y="304920"/>
            <a:ext cx="193212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4"/>
          <a:stretch/>
        </p:blipFill>
        <p:spPr>
          <a:xfrm>
            <a:off x="228600" y="4572000"/>
            <a:ext cx="17524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14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F02C-8263-4D33-BA05-36226C293C02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Куда пойдет вагонная составляюща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2"/>
          <a:stretch/>
        </p:blipFill>
        <p:spPr>
          <a:xfrm>
            <a:off x="324000" y="1093680"/>
            <a:ext cx="82296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21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AB1A-4A78-47A2-B76B-5418023B2406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Совокупные транспортные затраты по методологии операт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304920" y="1143000"/>
            <a:ext cx="86104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 чем забыли с 2012 го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«Плата за нерастороп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Логконтроли на порожний проб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Технология работы металлургических комбинатов из-под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двоенных опер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Порты – не единственные места массовой выгру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вод: «каникулы» по штрафным санкциям со стороны операторских компаний заканчиваются, а вопросы сдачи избыточного порожнего подвижного состава на сеть по-прежнему не реш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1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28" name="Номер слайда 12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7228-F666-4C68-B77D-EE58B828FF1B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304920" y="43668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Факторы ценового давления на грузовладельцев в 2015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304920" y="1143000"/>
            <a:ext cx="8610480" cy="41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гативные для грузовладельцев тенден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Четко прослеживающаяся тенденция на увеличение тарифов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.н. «регулируемом» сегмен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«Мягкий» рост вагонной составляющей в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вартале 2015 год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явным ускорением начиная со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варт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Скорость как фактор ц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омер слайда 12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21CD-4612-4751-B045-57D62B2B7459}" type="slidenum">
              <a:rPr b="0" lang="ru-RU" sz="12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7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6"/>
          <p:cNvSpPr/>
          <p:nvPr/>
        </p:nvSpPr>
        <p:spPr>
          <a:xfrm>
            <a:off x="0" y="1600200"/>
            <a:ext cx="9144000" cy="43434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Заголовок 2"/>
          <p:cNvSpPr/>
          <p:nvPr/>
        </p:nvSpPr>
        <p:spPr>
          <a:xfrm>
            <a:off x="2362320" y="2819520"/>
            <a:ext cx="6553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АСИБО ЗА ВНИМАНИЕ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металлургия 2"/>
          <p:cNvPicPr/>
          <p:nvPr/>
        </p:nvPicPr>
        <p:blipFill>
          <a:blip r:embed="rId2"/>
          <a:srcRect l="0" t="6842" r="0" b="5797"/>
          <a:stretch/>
        </p:blipFill>
        <p:spPr>
          <a:xfrm>
            <a:off x="237960" y="1600200"/>
            <a:ext cx="1752840" cy="1398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рулон 2"/>
          <p:cNvPicPr/>
          <p:nvPr/>
        </p:nvPicPr>
        <p:blipFill>
          <a:blip r:embed="rId3"/>
          <a:srcRect l="0" t="0" r="8718" b="6936"/>
          <a:stretch/>
        </p:blipFill>
        <p:spPr>
          <a:xfrm>
            <a:off x="219240" y="3124080"/>
            <a:ext cx="1752480" cy="1401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4"/>
          <a:stretch/>
        </p:blipFill>
        <p:spPr>
          <a:xfrm>
            <a:off x="228600" y="4626000"/>
            <a:ext cx="17524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1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58" name="Номер слайда 12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8813-EF5F-4840-903C-5A83063ECA2E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Факторы ценового д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304920" y="1143000"/>
            <a:ext cx="861048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т тарифов как регулируемой со стороны государства платы за услуги ОАО «РЖ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Ожидаемый рост вагонной составляю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Технологические факторы, оказывающие косвенное, но серьезное влияние на совокупные транспортные затраты грузовладельц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64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49C6-62FC-46BE-8523-69BB09448A66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Индексация – 2015 и долгосрочное тарифо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304920" y="11430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нировавшаяся траектории индексации железнодорожных тарифов на период с 2014 по 201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C:\Русская Сталь\12 ноября\1.png"/>
          <p:cNvPicPr/>
          <p:nvPr/>
        </p:nvPicPr>
        <p:blipFill>
          <a:blip r:embed="rId2"/>
          <a:stretch/>
        </p:blipFill>
        <p:spPr>
          <a:xfrm>
            <a:off x="685800" y="1828800"/>
            <a:ext cx="702324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72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8E59-0DEE-4EAF-90A7-98A41F8522DA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Индексация – 2015 и долгосрочное тарифо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304920" y="11430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может быть с траекторией индексации железнодорожных тарифов на период с 2014 по 201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C:\Русская Сталь\12 ноября\2.png"/>
          <p:cNvPicPr/>
          <p:nvPr/>
        </p:nvPicPr>
        <p:blipFill>
          <a:blip r:embed="rId2"/>
          <a:stretch/>
        </p:blipFill>
        <p:spPr>
          <a:xfrm>
            <a:off x="685800" y="1752480"/>
            <a:ext cx="685800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C4E1-6D7A-4BA7-8FDE-4DE7991E037E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Пример сравнения роста тарифа и цены на готовую продукцию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609480" y="961920"/>
            <a:ext cx="792504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87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B7AB-5001-4381-BA09-999CBB36892C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Пример сравнения роста транспортной составляющ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304920" y="1057320"/>
            <a:ext cx="84740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94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AD23-E7B6-4FB1-909D-AD860EB22437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Скрытые факторы роста тарифов и цен – часть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304920" y="1143000"/>
            <a:ext cx="861048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«регулируемый» сегмент превращаетс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«так называемый регулируемый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на существующей сети железных дорог скоростного и высокоскоростного пассажирского движения, замедление оборота ваг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риоритетный пропуск контейнерных поездов, в том числе в рамках проекта «Транссиб за 7 сут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Заложенная в т.н. «тарифном коридоре» концепция «золотого километ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Новая технология ремонта инфраструктуры в т.н. режиме «закрытых перегонов» или же «глухих окон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01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72F7-2638-4F61-B17F-2A5D03491207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Скрытые факторы роста тарифов и цен – часть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304920" y="1143000"/>
            <a:ext cx="8610480" cy="43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«регулируемый» сегмент превращаетс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«так называемый регулируемый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Отказ от тарификации грузовых перевозок по кратчайшему расстоя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Технология перевозок по «твердым ниткам графика» (по расписанию, с согласованным временем отправления и прибыт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Продление сроков доставки в направлении отечественных по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1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08" name="Номер слайда 12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B234-A091-429B-A88F-1787697AFEF7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304920" y="43668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Вагонная составляющая в терминах биржевой торгов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304920" y="1143000"/>
            <a:ext cx="861048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едствия вступления в силу соответствующего Технического регламента Таможенного союза и Постановления Правительства РФ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Постепенное снижение предложения на рынке из-за фактического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прета на продление сроков службы ваго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Линии сопротивления – сервисные контракты крупных холдинговых структур, поквартальное ценообра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Обманчивый боковой трен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Сезонное «сжатие» спроса на перевозки в зимний период не позволит серьезно «разогреть» вагонную составляющую (ставки суточной аренды и ставки на предоставление подвижного состава под погрузку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Ожидаемый «пробой» рынка вверх в преддверии весеннего оживления спроса на перевоз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ывод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I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вартал 2014 года и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вартал 2015 года – «затишье перед бур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орис</dc:creator>
  <dc:description/>
  <dc:language>en-US</dc:language>
  <cp:lastModifiedBy>Тюфаев Алексей Михайлович</cp:lastModifiedBy>
  <cp:lastPrinted>2011-05-10T05:31:58Z</cp:lastPrinted>
  <dcterms:modified xsi:type="dcterms:W3CDTF">2014-11-05T09:43:18Z</dcterms:modified>
  <cp:revision>7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