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768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FDEA-E76D-46F3-815B-27AD538D3A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1C86-D40E-418E-83CA-0D4E1E539A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0F55-CA37-42C2-87C2-D2815447D7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57CF-AA7E-4360-BE50-88BB5CF675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90C8E431-9C42-4BA5-B2FE-315C2C34C7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49FF-B12E-40ED-A815-85606A8F21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FA96-C268-4C74-8847-D673995F26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E63A-B1D2-4F30-BC91-9B0184B91B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ABA6-02D6-4418-B325-E11EDACA66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D5CC-4B6D-4089-84AC-C742C2AD6D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2E77-5FFE-4A6B-89DE-E2104D5D00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3FC9-C7FD-4199-9F96-79897E785F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48040" y="942984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1053-B26C-4C86-9970-5DB2D0D75E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58C-D10F-4D42-9168-9D65E06D9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32BE-FBE8-4420-B9EE-E5AA86C3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D38-0A4A-411E-8F37-A6F5D693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6AC-767C-40D7-B1C7-EAFDF48E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3F9-6C10-4433-9685-CC408327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3B4B-D2DF-4717-AA05-6A07E044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062-5456-4C1C-8861-0223E4BF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D43-9FA8-4AD8-8AF5-F2C05EF3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784-03A1-4A14-9327-532AA45A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06B6-FAAC-43AC-933B-A231CE76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2E4-EAD4-46A0-858F-4308E162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075-8ABC-486A-931B-D5363A73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1FF3-E727-49A8-909D-6FE74C9DF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478680" y="6248520"/>
            <a:ext cx="2170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12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 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ноября </a:t>
            </a:r>
            <a:r>
              <a:rPr b="1" lang="en-US" sz="1800" spc="-1" strike="noStrike">
                <a:solidFill>
                  <a:srgbClr val="7f7f7f"/>
                </a:solidFill>
                <a:latin typeface="Lucida Sans"/>
              </a:rPr>
              <a:t>201</a:t>
            </a:r>
            <a:r>
              <a:rPr b="1" lang="ru-RU" sz="1800" spc="-1" strike="noStrike">
                <a:solidFill>
                  <a:srgbClr val="7f7f7f"/>
                </a:solidFill>
                <a:latin typeface="Lucida Sans"/>
              </a:rPr>
              <a:t>4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6"/>
          <p:cNvSpPr/>
          <p:nvPr/>
        </p:nvSpPr>
        <p:spPr>
          <a:xfrm>
            <a:off x="0" y="1447920"/>
            <a:ext cx="9144000" cy="45720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36320" y="1909800"/>
            <a:ext cx="6705720" cy="27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 тарифных и нетарифных факторах ценового давления на грузовладе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металлургия 2"/>
          <p:cNvPicPr/>
          <p:nvPr/>
        </p:nvPicPr>
        <p:blipFill>
          <a:blip r:embed="rId1"/>
          <a:srcRect l="0" t="6842" r="0" b="5797"/>
          <a:stretch/>
        </p:blipFill>
        <p:spPr>
          <a:xfrm>
            <a:off x="237960" y="152388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рулон 2"/>
          <p:cNvPicPr/>
          <p:nvPr/>
        </p:nvPicPr>
        <p:blipFill>
          <a:blip r:embed="rId2"/>
          <a:srcRect l="0" t="0" r="8718" b="6936"/>
          <a:stretch/>
        </p:blipFill>
        <p:spPr>
          <a:xfrm>
            <a:off x="219240" y="3048120"/>
            <a:ext cx="1752480" cy="1401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руссталь"/>
          <p:cNvPicPr/>
          <p:nvPr/>
        </p:nvPicPr>
        <p:blipFill>
          <a:blip r:embed="rId3"/>
          <a:stretch/>
        </p:blipFill>
        <p:spPr>
          <a:xfrm>
            <a:off x="7010280" y="304920"/>
            <a:ext cx="193212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CAF9-B64A-4E21-A85C-85EEE54BB843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уда пойдет вагонная составляющ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"/>
          <p:cNvPicPr/>
          <p:nvPr/>
        </p:nvPicPr>
        <p:blipFill>
          <a:blip r:embed="rId2"/>
          <a:stretch/>
        </p:blipFill>
        <p:spPr>
          <a:xfrm>
            <a:off x="324000" y="1093680"/>
            <a:ext cx="82296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6E4F-E122-49DF-A7AA-578F0EDBDE31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овокупные транспортные затраты по методологии опера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304920" y="1143000"/>
            <a:ext cx="8610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чем забыли с 2012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«Плата за нерасторопнос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Логконтроли на порожний проб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я работы металлургических комбинатов из-под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воен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орты – не единственные места массовой выгру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: «каникулы» по штрафным санкциям со стороны операторских компаний заканчиваются, а вопросы сдачи избыточного порожнего подвижного состава на сеть по-прежнему не реш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2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ADBD-A40F-4357-B221-FFEF4B3747B0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 на грузовладельцев в 2015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04920" y="1143000"/>
            <a:ext cx="8610480" cy="41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гативные для грузовладельцев тенд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Четко прослеживающаяся тенденция на увеличение тарифов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.н. «регулируемом» сегмен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«Мягкий» рост вагонной составляющей в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е 2015 года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явным ускорением начиная с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варт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корость как фактор ц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FAA4-3ED7-454C-81A2-51AB8FD6FE84}" type="slidenum">
              <a:rPr b="0" lang="ru-RU" sz="12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7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8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6"/>
          <p:cNvSpPr/>
          <p:nvPr/>
        </p:nvSpPr>
        <p:spPr>
          <a:xfrm>
            <a:off x="0" y="1600200"/>
            <a:ext cx="9144000" cy="434340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2"/>
          <p:cNvSpPr/>
          <p:nvPr/>
        </p:nvSpPr>
        <p:spPr>
          <a:xfrm>
            <a:off x="2362320" y="2819520"/>
            <a:ext cx="6553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металлургия 2"/>
          <p:cNvPicPr/>
          <p:nvPr/>
        </p:nvPicPr>
        <p:blipFill>
          <a:blip r:embed="rId2"/>
          <a:srcRect l="0" t="6842" r="0" b="5797"/>
          <a:stretch/>
        </p:blipFill>
        <p:spPr>
          <a:xfrm>
            <a:off x="237960" y="1600200"/>
            <a:ext cx="1752840" cy="1398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рулон 2"/>
          <p:cNvPicPr/>
          <p:nvPr/>
        </p:nvPicPr>
        <p:blipFill>
          <a:blip r:embed="rId3"/>
          <a:srcRect l="0" t="0" r="8718" b="6936"/>
          <a:stretch/>
        </p:blipFill>
        <p:spPr>
          <a:xfrm>
            <a:off x="219240" y="3124080"/>
            <a:ext cx="1752480" cy="1401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4"/>
          <a:stretch/>
        </p:blipFill>
        <p:spPr>
          <a:xfrm>
            <a:off x="228600" y="4626000"/>
            <a:ext cx="175248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994D-CE7D-4527-8786-10135F1C44EA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Факторы ценового д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04920" y="1143000"/>
            <a:ext cx="861048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тарифов как регулируемой со стороны государства платы за услуги ОАО «РЖД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жидаемый рост вагонной составля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Технологические факторы, оказывающие косвенное, но серьезное влияние на совокупные транспортные затраты грузовладель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6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3ECA-1AF2-4321-A8C8-90C9B284CC93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вшаяся траектории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C:\Русская Сталь\12 ноября\1.png"/>
          <p:cNvPicPr/>
          <p:nvPr/>
        </p:nvPicPr>
        <p:blipFill>
          <a:blip r:embed="rId2"/>
          <a:stretch/>
        </p:blipFill>
        <p:spPr>
          <a:xfrm>
            <a:off x="685800" y="1828800"/>
            <a:ext cx="70232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72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5C9E-3E5C-4E27-BB7C-3FCC5C60937F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Индексация – 2015 и долгосрочное тарифо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304920" y="11430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может быть с траекторией индексации железнодорожных тарифов на период с 2014 по 201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Русская Сталь\12 ноября\2.png"/>
          <p:cNvPicPr/>
          <p:nvPr/>
        </p:nvPicPr>
        <p:blipFill>
          <a:blip r:embed="rId2"/>
          <a:stretch/>
        </p:blipFill>
        <p:spPr>
          <a:xfrm>
            <a:off x="685800" y="1752480"/>
            <a:ext cx="68580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ADB7-3AE5-4644-BCBB-DF990BD7B3C5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арифа и цены на готовую продукцию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609480" y="961920"/>
            <a:ext cx="79250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87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DABB-9A2B-47C4-BFDA-641C1ED5ECB2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Пример сравнения роста транспортной составляющ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304920" y="1057320"/>
            <a:ext cx="84740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94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3E74-56AA-4CB5-8FAB-0226514A547F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304920" y="1143000"/>
            <a:ext cx="86104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 существующей сети железных дорог скоростного и высокоскоростного пассажирского движения, замедление оборота ваг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оритетный пропуск контейнерных поездов, в том числе в рамках проекта «Транссиб за 7 сут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Заложенная в т.н. «тарифном коридоре» концепция «золотого километ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Новая технология ремонта инфраструктуры в т.н. режиме «закрытых перегонов» или же «глухих окон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1"/>
          <p:cNvSpPr/>
          <p:nvPr/>
        </p:nvSpPr>
        <p:spPr>
          <a:xfrm>
            <a:off x="324000" y="659772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1" name="Номер слайда 12"/>
          <p:cNvSpPr/>
          <p:nvPr/>
        </p:nvSpPr>
        <p:spPr>
          <a:xfrm>
            <a:off x="6659640" y="6669000"/>
            <a:ext cx="21333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D981-2077-4506-9C91-FA06142E17E2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304920" y="43344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Скрытые факторы роста тарифов и цен – 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04920" y="1143000"/>
            <a:ext cx="8610480" cy="43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«регулируемый» сегмент превращаетс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«так называемый регулируемый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Отказ от тарификации грузовых перевозок по кратчайшему расстоя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Технология перевозок по «твердым ниткам графика» (по расписанию, с согласованным временем отправления и прибыт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Продление сроков доставки в направлении отечественных по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1"/>
          <p:cNvSpPr/>
          <p:nvPr/>
        </p:nvSpPr>
        <p:spPr>
          <a:xfrm>
            <a:off x="324000" y="6632640"/>
            <a:ext cx="8569080" cy="3492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324000" y="404640"/>
            <a:ext cx="8569080" cy="503280"/>
          </a:xfrm>
          <a:prstGeom prst="rect">
            <a:avLst/>
          </a:prstGeom>
          <a:solidFill>
            <a:srgbClr val="6565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4" descr="Лого_РС.tif"/>
          <p:cNvPicPr/>
          <p:nvPr/>
        </p:nvPicPr>
        <p:blipFill>
          <a:blip r:embed="rId1"/>
          <a:stretch/>
        </p:blipFill>
        <p:spPr>
          <a:xfrm>
            <a:off x="8028000" y="476280"/>
            <a:ext cx="801720" cy="384120"/>
          </a:xfrm>
          <a:prstGeom prst="rect">
            <a:avLst/>
          </a:prstGeom>
          <a:ln w="0">
            <a:noFill/>
          </a:ln>
        </p:spPr>
      </p:pic>
      <p:sp>
        <p:nvSpPr>
          <p:cNvPr id="108" name="Номер слайда 12"/>
          <p:cNvSpPr/>
          <p:nvPr/>
        </p:nvSpPr>
        <p:spPr>
          <a:xfrm>
            <a:off x="6659640" y="6669000"/>
            <a:ext cx="2133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A2D9-5258-4AE9-97AF-B7FC8BD7664F}" type="slidenum">
              <a:rPr b="0" lang="ru-RU" sz="1400" spc="-1" strike="noStrike">
                <a:solidFill>
                  <a:srgbClr val="656565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304920" y="43668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Вагонная составляющая в терминах бирже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04920" y="1143000"/>
            <a:ext cx="861048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ствия вступления в силу соответствующего Технического регламента Таможенного союза и Постановления Правительства Р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Постепенное снижение предложения на рынке из-за фактического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рета на продление сроков службы ваг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инии сопротивления – сервисные контракты крупных холдинговых структур, поквартальное цено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Обманчивый боковой трен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езонное «сжатие» спроса на перевозки в зимний период не позволит серьезно «разогреть» вагонную составляющую (ставки суточной аренды и ставки на предоставление подвижного состава под погруз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Ожидаемый «пробой» рынка вверх в преддверии весеннего оживления спроса на перевоз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ывод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4 года 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вартал 2015 года – «затишье перед бур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рис</dc:creator>
  <dc:description/>
  <dc:language>en-US</dc:language>
  <cp:lastModifiedBy>Тюфаев Алексей Михайлович</cp:lastModifiedBy>
  <cp:lastPrinted>2011-05-10T05:31:58Z</cp:lastPrinted>
  <dcterms:modified xsi:type="dcterms:W3CDTF">2014-11-05T09:43:18Z</dcterms:modified>
  <cp:revision>7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