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B1F2-9D19-4A4C-A0EA-0F1B46D5B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CA51-1EEE-43CD-BF4D-C4CDF6CB4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0CE51C-B144-47FF-8A2D-2D92AAC3B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2AA2FE-47BE-4FEF-B36D-E08A3FB3A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18362B-F41A-4414-A63C-CA28AB383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E60185-212A-43F5-B0DC-03722D47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7EF872-1CA8-4A12-B4F5-BD735A5F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3C9428-AD82-4415-BF69-8A4CD45B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62B1DF-9244-41B5-943D-96C094572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95804A-36C2-475C-99B4-1DB106B5E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D3C1C6-71A4-4D48-8AF1-C8F7415C4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18EBB1-8F47-4269-BF44-35DA7A14B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55B4-E0F7-441F-975C-57C4CF314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FA23F8-835F-4BF0-9B0F-FBF029C42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F2F7DB-7294-40BC-BEE6-3499A6C0E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59DD2C-74AB-454A-B251-005F0CBF3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2D858A-2B4C-49CF-B781-6DE6B614A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174406-4272-4EFC-AB17-B398E0647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461849-DBF4-4328-80BE-D3937FDE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EC824A-D1DE-43F8-ACEE-6BBF4DA3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44BD50-5A39-41BF-A220-22B3F35F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73316D-4A75-4720-8E69-0757748DB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574E0B-F39C-46FF-9F2A-3B26B72DA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EAAE-9715-46CA-873C-88B57D89A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59EFE6-A350-45DF-97D5-EC59EAAC6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88F9C4-C198-4D32-80A7-F1506A713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8BDD1A-580C-459F-957F-99643341B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12577A-E375-4A90-ACEF-B2F277923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AAA850-10C0-4A2E-A155-C8A29CC64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72A583-3318-4E58-A5DA-8A304E35A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E66DBE-B81C-4F3C-AB0F-34DA8F578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F87D30-EBA5-4DF7-8893-6A2F774A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267933-60D5-4F44-9A13-5200034D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4FBD32-7909-4DCD-94E7-273EDB5E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2400F-3B98-4A61-839C-7A7AB4863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03ED56-4EEF-40A6-B8BB-5A20A48D4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0D56DD-3550-4D6E-90FA-26995BF1B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0E3BAD-8172-4B57-8B8A-61A9DFF27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6A9F9D-C0A2-4AF4-B089-F0F48161E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6AB618-DB4F-4259-AD07-7F9B15CA5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78D2BE-57FC-441C-8F62-0AC7F3A33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85CE1A-B794-4708-928F-F99F0BBF6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FA54DD-5583-44DB-BF5F-D83761141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36ADF8-BC9F-474C-AEE1-C1C0E0D48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E7D953-1287-4AAE-9749-09C5822E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B7400-D695-46B8-A4B8-F13B8AE73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CC0D18-172B-4AD0-84DF-E3971F7B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88FBFC-04D3-4AD6-98B4-0420477F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7BEAD4-2206-49F7-A1FF-AFC9272B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BC9CE5-33CA-4741-970C-6D70D4A08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B63CC8-07C8-40D7-8E91-13D79E971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916E2-2B9D-43FA-8E33-86D0F8669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49833-CD30-43BB-9127-A62CD6BA0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0856C-AE63-4CE5-88A3-89978E068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2F8B7-D8E4-47C5-8D59-319D65DE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5D0DA-6908-4718-8F28-EDD94653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0B42-B255-4708-A891-DD876113C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567D9-917F-49D3-B486-729E0C0B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AFF17-DF3C-4F1F-81D8-3A8141B3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E2715-51A9-4F35-9000-BBD305F83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E6DCE-A558-4A9D-9B85-78E4B4917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563D5-C74F-49A5-AFB9-0651948EF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6E8C3-366B-424F-AE2D-5BE1E692E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3D54C-9CC7-4698-943D-2D7F22EBC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9755E-CB61-4660-A28D-EB157E4B1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CEB33-8DCC-4F16-8A91-D727D5C2E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FD93C-F7ED-449B-A9BF-B62BCE212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697A-D206-4184-994B-C33E7B13C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E0B96-C01E-4F36-B8EA-3B5DFAD25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37B86-EAD3-42C7-9D32-02DBF877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0A095-1A17-4251-A7E6-CCFC9AA8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D44E6-7A6A-4287-B706-7E9EF482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9B8C0-B93C-45D3-A931-F67DE71E8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C1EF9-F933-4304-B8F2-55A4B5B96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27C90-F3B5-48DC-A4F7-89BD2D31F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85FD2-EE84-463C-B8C0-5B4D996CC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04362-F4BB-4C4F-919B-B07B9238D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4F998-4732-4F0E-BC55-8A5C3A72D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E412-C5F7-4C4D-BCEF-A94349C10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CB2A5-04E2-40FD-8D7D-90E329B79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F0E30-6F7B-4C7D-B2CE-9F1607F1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7BEE1-142A-429C-8842-E07AE1840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BCF58-7B41-4301-AE83-80BBCD59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3D531-2FEB-471E-9FFD-4D05F277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31CFA-53F6-4EEC-8911-2B0102D3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94F81-BB9F-4EC1-BC6D-B23D83900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4992A-98E6-480F-838C-50CB32B10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AC0E2-458D-4FA6-A356-CDD7A29EF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EFC39-C0FE-4E64-9F95-ADED2C566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8E36-79B2-4970-966C-CE1542935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A467E-8EA9-41FE-AD02-54EC1416F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92E9F-9E5F-4039-A04A-F55FE5C09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F7438-F7D3-47CB-A590-D5A32C9CA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5A7FE-F3DF-4039-909B-3C216B4C0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C52E8-4E21-4745-B6D7-5D3E7586F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EE4432-DC9C-4F62-84E6-70F395022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1C56E-EDE9-4603-9E03-52DF859A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CD0E8-EC18-4C9B-B9B8-5F4BAC24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54623-9E8F-446C-96EB-C4A0AEF98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E496F-22A3-4841-A352-B730B4C29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4883-8928-4EC9-AAEA-7176ECAD8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6DC0E-16C9-4EE5-AB3C-060149C9E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31DFF-4CA2-4D02-9B2F-947BEE56B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F57B9-5DE3-42C6-A13A-3E1E329F6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B4AFB0-107A-4835-AF7C-2B33B6E8A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B6156B-6541-424F-9CD5-F40CA2A03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5617A-B390-4047-9194-5920DA7E8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AA5C7-C3A0-4CC3-B4D6-8BC769663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711C0-142D-42D7-8587-E20AD5D4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A93F8-DAA4-4EFA-8AF9-DE18A5DE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0F723-8AA1-4F56-99E2-3667D92F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5F7A-FC74-49CB-8021-70555063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D3DF5-F226-49E9-9BE9-B046605CF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6A470-DC27-4C84-BD3F-2F9182D25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AC011-CBF5-4567-9044-727E8FD77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3BCFE3-33DB-45EE-BDF1-34C545FC3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013981-2CDB-4896-B156-7909C939B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C2C3A-A6EE-4B21-A7E5-932C5BF5F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A9D51-134F-4414-891B-D100E35DC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A98664-9A20-41FB-8FE9-F8358C5F0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CAAE63-30C5-4B98-9D4D-D641DFE63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BB8593-BCE6-4DD9-851C-05C9C310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D7CF-3301-4735-BD48-5E4CD7E8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9BB65-F051-45CA-8071-253E15B6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E190E-C4C3-4F02-B0A5-135DCEE5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1F576-8AEB-41FD-AA5B-F229B9DB8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19332E-8C8F-46F5-ABD7-9424C5129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C5FDD-7BDD-4F1A-B7C3-E6F7912C6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B95C4A-EE6C-4EAA-9D9E-954806327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849337-272F-4597-9218-B817CA4FB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96ED16-8501-4991-BC02-CFAA4C676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E5EAAA-7DA3-4812-83B6-6EDA9355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1AF3E3-77C1-43A1-8997-4A11D3063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E74C-FDC0-4FD1-A13E-B2DADF16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8BE557-D3DB-49AE-A338-F54F34F7D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F5AAAA-CFD4-48FB-BB71-370A135E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67900B-B1E5-4838-9C01-1D280050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723C95-3840-4E43-9025-DFF5F9C4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FC9426-C3B9-4E9F-8EF0-D990A6558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ED9FAD-FB2C-4665-A891-227BE5B37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0BE152-85AF-4354-905C-D98E28695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B1FC36-C547-45CF-B21B-ADB05CE77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5447C3-DC08-4946-8171-BF04D6BEA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A09D4F-1CD5-4E19-ADC7-AD489BD97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76CC1-5AEE-41CF-AA2C-F2DF39AB553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4DEEC-7D27-4F17-96C7-E9E96B9F5FD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2C9ED-AA9D-4F99-8FA0-A852E15E5BD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AFB5E-D5EC-4EBC-95B4-36C6CAF83C1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610D9-3D09-4F45-89BE-F6C01CCF63A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6ABEA-ADED-4458-9898-F8B2C829994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0CCC1-66F5-47B0-A689-262843C25B1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904AB-8F91-4AD9-9D5B-60E5DE6A717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E7EF5-F8A4-4443-BC90-C75A752ACBC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0E4DC-7DF4-4E9C-BB11-C688A6A8C85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2A167-A3BD-45E0-94F5-43014276DDA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EABD8-22C5-47F2-9236-881129AD5B4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5.wmf"/><Relationship Id="rId6" Type="http://schemas.openxmlformats.org/officeDocument/2006/relationships/image" Target="../media/image7.png"/><Relationship Id="rId7" Type="http://schemas.openxmlformats.org/officeDocument/2006/relationships/image" Target="../media/image5.wmf"/><Relationship Id="rId8" Type="http://schemas.openxmlformats.org/officeDocument/2006/relationships/image" Target="../media/image8.png"/><Relationship Id="rId9" Type="http://schemas.openxmlformats.org/officeDocument/2006/relationships/image" Target="../media/image5.wmf"/><Relationship Id="rId10" Type="http://schemas.openxmlformats.org/officeDocument/2006/relationships/image" Target="../media/image3.png"/><Relationship Id="rId11" Type="http://schemas.openxmlformats.org/officeDocument/2006/relationships/image" Target="../media/image8.png"/><Relationship Id="rId12" Type="http://schemas.openxmlformats.org/officeDocument/2006/relationships/image" Target="../media/image5.wmf"/><Relationship Id="rId1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820960" y="2997360"/>
            <a:ext cx="614520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e237e"/>
                </a:solidFill>
                <a:latin typeface="Arial"/>
              </a:rPr>
              <a:t>Перспективы развития </a:t>
            </a:r>
            <a:br>
              <a:rPr sz="2800"/>
            </a:br>
            <a:r>
              <a:rPr b="1" i="1" lang="en-US" sz="2800" spc="-1" strike="noStrike">
                <a:solidFill>
                  <a:srgbClr val="0e237e"/>
                </a:solidFill>
                <a:latin typeface="Arial"/>
              </a:rPr>
              <a:t>мультимодальных перевозок </a:t>
            </a:r>
            <a:br>
              <a:rPr sz="2800"/>
            </a:br>
            <a:r>
              <a:rPr b="1" i="1" lang="en-US" sz="2800" spc="-1" strike="noStrike">
                <a:solidFill>
                  <a:srgbClr val="0e237e"/>
                </a:solidFill>
                <a:latin typeface="Arial"/>
              </a:rPr>
              <a:t>горно-металлургических грузов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05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506" name="AutoShape 4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979640" y="404640"/>
            <a:ext cx="6934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ecff"/>
                </a:solidFill>
                <a:latin typeface="Arial"/>
              </a:rPr>
              <a:t>Перспективы развития и совершенствования </a:t>
            </a:r>
            <a:br>
              <a:rPr sz="2100"/>
            </a:br>
            <a:r>
              <a:rPr b="1" lang="en-US" sz="2100" spc="-1" strike="noStrike">
                <a:solidFill>
                  <a:srgbClr val="ccecff"/>
                </a:solidFill>
                <a:latin typeface="Arial"/>
              </a:rPr>
              <a:t>мультимодальных перевозок</a:t>
            </a:r>
            <a:endParaRPr b="1" lang="en-US" sz="2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9" name="AutoShape 3"/>
          <p:cNvSpPr/>
          <p:nvPr/>
        </p:nvSpPr>
        <p:spPr>
          <a:xfrm>
            <a:off x="-28440" y="981000"/>
            <a:ext cx="7624800" cy="5113440"/>
          </a:xfrm>
          <a:prstGeom prst="rightArrow">
            <a:avLst>
              <a:gd name="adj1" fmla="val 79315"/>
              <a:gd name="adj2" fmla="val 36933"/>
            </a:avLst>
          </a:prstGeom>
          <a:gradFill rotWithShape="0">
            <a:gsLst>
              <a:gs pos="0">
                <a:srgbClr val="adc9f0"/>
              </a:gs>
              <a:gs pos="100000">
                <a:srgbClr val="709ee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AutoShape 4"/>
          <p:cNvSpPr/>
          <p:nvPr/>
        </p:nvSpPr>
        <p:spPr>
          <a:xfrm>
            <a:off x="109440" y="1557360"/>
            <a:ext cx="5975280" cy="4334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9874f2"/>
              </a:gs>
              <a:gs pos="100000">
                <a:srgbClr val="45356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дание и развитие МТ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AutoShape 5"/>
          <p:cNvSpPr/>
          <p:nvPr/>
        </p:nvSpPr>
        <p:spPr>
          <a:xfrm>
            <a:off x="109440" y="2060640"/>
            <a:ext cx="6334200" cy="431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3b9d81"/>
              </a:gs>
              <a:gs pos="100000">
                <a:srgbClr val="1b483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крупнение и диверсификация бизнеса и услу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AutoShape 6"/>
          <p:cNvSpPr/>
          <p:nvPr/>
        </p:nvSpPr>
        <p:spPr>
          <a:xfrm>
            <a:off x="108000" y="2567160"/>
            <a:ext cx="6696000" cy="431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80c040"/>
              </a:gs>
              <a:gs pos="100000">
                <a:srgbClr val="3a571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теграция в производственный проце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AutoShape 7"/>
          <p:cNvSpPr/>
          <p:nvPr/>
        </p:nvSpPr>
        <p:spPr>
          <a:xfrm rot="5400000">
            <a:off x="5471280" y="2709720"/>
            <a:ext cx="5038920" cy="1295640"/>
          </a:xfrm>
          <a:prstGeom prst="roundRect">
            <a:avLst>
              <a:gd name="adj" fmla="val 910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e101"/>
                </a:solidFill>
                <a:latin typeface="Arial"/>
              </a:rPr>
              <a:t>Мультимодальные перевоз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4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855" name="AutoShape 9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e237e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AutoShape 4"/>
          <p:cNvSpPr/>
          <p:nvPr/>
        </p:nvSpPr>
        <p:spPr>
          <a:xfrm>
            <a:off x="109440" y="3071880"/>
            <a:ext cx="6910560" cy="431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9874f2"/>
              </a:gs>
              <a:gs pos="100000">
                <a:srgbClr val="45356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тимизация путей финансирования перевоз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AutoShape 5"/>
          <p:cNvSpPr/>
          <p:nvPr/>
        </p:nvSpPr>
        <p:spPr>
          <a:xfrm>
            <a:off x="109440" y="3573360"/>
            <a:ext cx="6912000" cy="647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3b9d81"/>
              </a:gs>
              <a:gs pos="100000">
                <a:srgbClr val="1b483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нимизация рисков путем страхова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ам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исков одним юридическим лиц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AutoShape 6"/>
          <p:cNvSpPr/>
          <p:nvPr/>
        </p:nvSpPr>
        <p:spPr>
          <a:xfrm>
            <a:off x="108000" y="4292640"/>
            <a:ext cx="6480000" cy="57636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80c040"/>
              </a:gs>
              <a:gs pos="100000">
                <a:srgbClr val="3a571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тимизация и унификация документооборо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ранспортного проце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AutoShape 5"/>
          <p:cNvSpPr/>
          <p:nvPr/>
        </p:nvSpPr>
        <p:spPr>
          <a:xfrm>
            <a:off x="108000" y="4943520"/>
            <a:ext cx="6048360" cy="50472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3b9d81"/>
              </a:gs>
              <a:gs pos="100000">
                <a:srgbClr val="1b483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ехническая модернизация составляющих проце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0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861" name="AutoShape 3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e237e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Text Box 4"/>
          <p:cNvSpPr/>
          <p:nvPr/>
        </p:nvSpPr>
        <p:spPr>
          <a:xfrm>
            <a:off x="3203640" y="350208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874f2"/>
                </a:solidFill>
                <a:latin typeface="Arial"/>
              </a:rPr>
              <a:t>БЛАГОДАРЮ ЗА ВНИМАНИЕ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Мультимодальная перевозка: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8" name="Line 3"/>
          <p:cNvSpPr/>
          <p:nvPr/>
        </p:nvSpPr>
        <p:spPr>
          <a:xfrm>
            <a:off x="1549440" y="2781360"/>
            <a:ext cx="6767640" cy="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9" name="Group 5"/>
          <p:cNvGrpSpPr/>
          <p:nvPr/>
        </p:nvGrpSpPr>
        <p:grpSpPr>
          <a:xfrm>
            <a:off x="714240" y="1773360"/>
            <a:ext cx="799200" cy="750240"/>
            <a:chOff x="714240" y="1773360"/>
            <a:chExt cx="799200" cy="750240"/>
          </a:xfrm>
        </p:grpSpPr>
        <p:grpSp>
          <p:nvGrpSpPr>
            <p:cNvPr id="510" name="Group 6"/>
            <p:cNvGrpSpPr/>
            <p:nvPr/>
          </p:nvGrpSpPr>
          <p:grpSpPr>
            <a:xfrm>
              <a:off x="714240" y="1773360"/>
              <a:ext cx="799200" cy="750240"/>
              <a:chOff x="714240" y="1773360"/>
              <a:chExt cx="799200" cy="750240"/>
            </a:xfrm>
          </p:grpSpPr>
          <p:grpSp>
            <p:nvGrpSpPr>
              <p:cNvPr id="511" name="Group 7"/>
              <p:cNvGrpSpPr/>
              <p:nvPr/>
            </p:nvGrpSpPr>
            <p:grpSpPr>
              <a:xfrm>
                <a:off x="714240" y="1773360"/>
                <a:ext cx="799200" cy="750240"/>
                <a:chOff x="714240" y="1773360"/>
                <a:chExt cx="799200" cy="750240"/>
              </a:xfrm>
            </p:grpSpPr>
            <p:sp>
              <p:nvSpPr>
                <p:cNvPr id="512" name="Oval 8"/>
                <p:cNvSpPr/>
                <p:nvPr/>
              </p:nvSpPr>
              <p:spPr>
                <a:xfrm>
                  <a:off x="714240" y="1773360"/>
                  <a:ext cx="799200" cy="750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709ee2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" name="Oval 9"/>
                <p:cNvSpPr/>
                <p:nvPr/>
              </p:nvSpPr>
              <p:spPr>
                <a:xfrm>
                  <a:off x="714240" y="1773360"/>
                  <a:ext cx="799200" cy="750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709ee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Oval 10"/>
                <p:cNvSpPr/>
                <p:nvPr/>
              </p:nvSpPr>
              <p:spPr>
                <a:xfrm>
                  <a:off x="767160" y="1822320"/>
                  <a:ext cx="693000" cy="65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c567a"/>
                    </a:gs>
                    <a:gs pos="50000">
                      <a:srgbClr val="709ee2"/>
                    </a:gs>
                    <a:gs pos="100000">
                      <a:srgbClr val="3c567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Oval 11"/>
                <p:cNvSpPr/>
                <p:nvPr/>
              </p:nvSpPr>
              <p:spPr>
                <a:xfrm>
                  <a:off x="767160" y="1823400"/>
                  <a:ext cx="693000" cy="652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09ee2"/>
                    </a:gs>
                    <a:gs pos="100000">
                      <a:srgbClr val="45648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6" name="Group 12"/>
              <p:cNvGrpSpPr/>
              <p:nvPr/>
            </p:nvGrpSpPr>
            <p:grpSpPr>
              <a:xfrm>
                <a:off x="810720" y="1853640"/>
                <a:ext cx="626040" cy="596880"/>
                <a:chOff x="810720" y="1853640"/>
                <a:chExt cx="626040" cy="596880"/>
              </a:xfrm>
            </p:grpSpPr>
            <p:sp>
              <p:nvSpPr>
                <p:cNvPr id="517" name="Oval 13"/>
                <p:cNvSpPr/>
                <p:nvPr/>
              </p:nvSpPr>
              <p:spPr>
                <a:xfrm>
                  <a:off x="810720" y="1864440"/>
                  <a:ext cx="626040" cy="586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18" name="Group 14"/>
                <p:cNvGrpSpPr/>
                <p:nvPr/>
              </p:nvGrpSpPr>
              <p:grpSpPr>
                <a:xfrm>
                  <a:off x="810720" y="1853640"/>
                  <a:ext cx="606240" cy="568800"/>
                  <a:chOff x="810720" y="1853640"/>
                  <a:chExt cx="606240" cy="568800"/>
                </a:xfrm>
              </p:grpSpPr>
              <p:sp>
                <p:nvSpPr>
                  <p:cNvPr id="519" name="Oval 15"/>
                  <p:cNvSpPr/>
                  <p:nvPr/>
                </p:nvSpPr>
                <p:spPr>
                  <a:xfrm>
                    <a:off x="810720" y="1853640"/>
                    <a:ext cx="606240" cy="568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" name="Oval 16"/>
                  <p:cNvSpPr/>
                  <p:nvPr/>
                </p:nvSpPr>
                <p:spPr>
                  <a:xfrm>
                    <a:off x="818280" y="1856520"/>
                    <a:ext cx="591840" cy="554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Oval 17"/>
                  <p:cNvSpPr/>
                  <p:nvPr/>
                </p:nvSpPr>
                <p:spPr>
                  <a:xfrm>
                    <a:off x="824760" y="1862280"/>
                    <a:ext cx="562680" cy="51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Oval 18"/>
                  <p:cNvSpPr/>
                  <p:nvPr/>
                </p:nvSpPr>
                <p:spPr>
                  <a:xfrm>
                    <a:off x="857520" y="1876680"/>
                    <a:ext cx="500040" cy="420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23" name="Text Box 19"/>
            <p:cNvSpPr/>
            <p:nvPr/>
          </p:nvSpPr>
          <p:spPr>
            <a:xfrm>
              <a:off x="923400" y="1893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4" name="Text Box 4"/>
          <p:cNvSpPr/>
          <p:nvPr/>
        </p:nvSpPr>
        <p:spPr>
          <a:xfrm>
            <a:off x="1547640" y="1773360"/>
            <a:ext cx="720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Единый организатор перевозки(ОМП)-сторона договора перевоз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Line 20"/>
          <p:cNvSpPr/>
          <p:nvPr/>
        </p:nvSpPr>
        <p:spPr>
          <a:xfrm>
            <a:off x="1620720" y="4076640"/>
            <a:ext cx="6696360" cy="180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Text Box 21"/>
          <p:cNvSpPr/>
          <p:nvPr/>
        </p:nvSpPr>
        <p:spPr>
          <a:xfrm>
            <a:off x="1549440" y="3068640"/>
            <a:ext cx="70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Используется несколько(как ми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н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имум дв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) вид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 транспо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Text Box 23"/>
          <p:cNvSpPr/>
          <p:nvPr/>
        </p:nvSpPr>
        <p:spPr>
          <a:xfrm>
            <a:off x="1620720" y="4581360"/>
            <a:ext cx="66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Ответственность одной компании(ОМП) за качество всей перевозки и состояние гру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8" name="Group 26"/>
          <p:cNvGrpSpPr/>
          <p:nvPr/>
        </p:nvGrpSpPr>
        <p:grpSpPr>
          <a:xfrm>
            <a:off x="684360" y="3141720"/>
            <a:ext cx="792360" cy="685800"/>
            <a:chOff x="684360" y="3141720"/>
            <a:chExt cx="792360" cy="685800"/>
          </a:xfrm>
        </p:grpSpPr>
        <p:grpSp>
          <p:nvGrpSpPr>
            <p:cNvPr id="529" name="Group 27"/>
            <p:cNvGrpSpPr/>
            <p:nvPr/>
          </p:nvGrpSpPr>
          <p:grpSpPr>
            <a:xfrm>
              <a:off x="684360" y="3141720"/>
              <a:ext cx="792360" cy="685800"/>
              <a:chOff x="684360" y="3141720"/>
              <a:chExt cx="792360" cy="685800"/>
            </a:xfrm>
          </p:grpSpPr>
          <p:grpSp>
            <p:nvGrpSpPr>
              <p:cNvPr id="530" name="Group 28"/>
              <p:cNvGrpSpPr/>
              <p:nvPr/>
            </p:nvGrpSpPr>
            <p:grpSpPr>
              <a:xfrm>
                <a:off x="684360" y="3141720"/>
                <a:ext cx="792360" cy="685800"/>
                <a:chOff x="684360" y="3141720"/>
                <a:chExt cx="792360" cy="685800"/>
              </a:xfrm>
            </p:grpSpPr>
            <p:sp>
              <p:nvSpPr>
                <p:cNvPr id="531" name="Oval 29"/>
                <p:cNvSpPr/>
                <p:nvPr/>
              </p:nvSpPr>
              <p:spPr>
                <a:xfrm>
                  <a:off x="684360" y="3141720"/>
                  <a:ext cx="79236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3b9d81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2" name="Oval 30"/>
                <p:cNvSpPr/>
                <p:nvPr/>
              </p:nvSpPr>
              <p:spPr>
                <a:xfrm>
                  <a:off x="684360" y="3141720"/>
                  <a:ext cx="79236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3b9d8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3" name="Oval 31"/>
                <p:cNvSpPr/>
                <p:nvPr/>
              </p:nvSpPr>
              <p:spPr>
                <a:xfrm>
                  <a:off x="736920" y="3186360"/>
                  <a:ext cx="686880" cy="59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5445"/>
                    </a:gs>
                    <a:gs pos="50000">
                      <a:srgbClr val="3b9d81"/>
                    </a:gs>
                    <a:gs pos="100000">
                      <a:srgbClr val="205445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Oval 32"/>
                <p:cNvSpPr/>
                <p:nvPr/>
              </p:nvSpPr>
              <p:spPr>
                <a:xfrm>
                  <a:off x="736920" y="3187440"/>
                  <a:ext cx="686880" cy="59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9d81"/>
                    </a:gs>
                    <a:gs pos="100000">
                      <a:srgbClr val="25625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5" name="Group 33"/>
              <p:cNvGrpSpPr/>
              <p:nvPr/>
            </p:nvGrpSpPr>
            <p:grpSpPr>
              <a:xfrm>
                <a:off x="775080" y="3220920"/>
                <a:ext cx="620640" cy="545400"/>
                <a:chOff x="775080" y="3220920"/>
                <a:chExt cx="620640" cy="545400"/>
              </a:xfrm>
            </p:grpSpPr>
            <p:sp>
              <p:nvSpPr>
                <p:cNvPr id="536" name="Oval 34"/>
                <p:cNvSpPr/>
                <p:nvPr/>
              </p:nvSpPr>
              <p:spPr>
                <a:xfrm>
                  <a:off x="775080" y="3231000"/>
                  <a:ext cx="620640" cy="535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37" name="Group 35"/>
                <p:cNvGrpSpPr/>
                <p:nvPr/>
              </p:nvGrpSpPr>
              <p:grpSpPr>
                <a:xfrm>
                  <a:off x="775080" y="3220920"/>
                  <a:ext cx="600840" cy="519840"/>
                  <a:chOff x="775080" y="3220920"/>
                  <a:chExt cx="600840" cy="519840"/>
                </a:xfrm>
              </p:grpSpPr>
              <p:sp>
                <p:nvSpPr>
                  <p:cNvPr id="538" name="Oval 36"/>
                  <p:cNvSpPr/>
                  <p:nvPr/>
                </p:nvSpPr>
                <p:spPr>
                  <a:xfrm>
                    <a:off x="775080" y="3220920"/>
                    <a:ext cx="600840" cy="51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Oval 37"/>
                  <p:cNvSpPr/>
                  <p:nvPr/>
                </p:nvSpPr>
                <p:spPr>
                  <a:xfrm>
                    <a:off x="782640" y="3223800"/>
                    <a:ext cx="586440" cy="506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Oval 38"/>
                  <p:cNvSpPr/>
                  <p:nvPr/>
                </p:nvSpPr>
                <p:spPr>
                  <a:xfrm>
                    <a:off x="788760" y="3228480"/>
                    <a:ext cx="557640" cy="473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Oval 39"/>
                  <p:cNvSpPr/>
                  <p:nvPr/>
                </p:nvSpPr>
                <p:spPr>
                  <a:xfrm>
                    <a:off x="821520" y="3241800"/>
                    <a:ext cx="495720" cy="38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42" name="Text Box 40"/>
            <p:cNvSpPr/>
            <p:nvPr/>
          </p:nvSpPr>
          <p:spPr>
            <a:xfrm>
              <a:off x="903240" y="3262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3" name="Group 41"/>
          <p:cNvGrpSpPr/>
          <p:nvPr/>
        </p:nvGrpSpPr>
        <p:grpSpPr>
          <a:xfrm>
            <a:off x="684360" y="4653000"/>
            <a:ext cx="756720" cy="679320"/>
            <a:chOff x="684360" y="4653000"/>
            <a:chExt cx="756720" cy="679320"/>
          </a:xfrm>
        </p:grpSpPr>
        <p:grpSp>
          <p:nvGrpSpPr>
            <p:cNvPr id="544" name="Group 42"/>
            <p:cNvGrpSpPr/>
            <p:nvPr/>
          </p:nvGrpSpPr>
          <p:grpSpPr>
            <a:xfrm>
              <a:off x="684360" y="4653000"/>
              <a:ext cx="756720" cy="679320"/>
              <a:chOff x="684360" y="4653000"/>
              <a:chExt cx="756720" cy="679320"/>
            </a:xfrm>
          </p:grpSpPr>
          <p:grpSp>
            <p:nvGrpSpPr>
              <p:cNvPr id="545" name="Group 43"/>
              <p:cNvGrpSpPr/>
              <p:nvPr/>
            </p:nvGrpSpPr>
            <p:grpSpPr>
              <a:xfrm>
                <a:off x="684360" y="4653000"/>
                <a:ext cx="756720" cy="679320"/>
                <a:chOff x="684360" y="4653000"/>
                <a:chExt cx="756720" cy="679320"/>
              </a:xfrm>
            </p:grpSpPr>
            <p:sp>
              <p:nvSpPr>
                <p:cNvPr id="546" name="Oval 44"/>
                <p:cNvSpPr/>
                <p:nvPr/>
              </p:nvSpPr>
              <p:spPr>
                <a:xfrm>
                  <a:off x="684360" y="4653000"/>
                  <a:ext cx="75672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709ee2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Oval 45"/>
                <p:cNvSpPr/>
                <p:nvPr/>
              </p:nvSpPr>
              <p:spPr>
                <a:xfrm>
                  <a:off x="684360" y="4653000"/>
                  <a:ext cx="75672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709ee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Oval 46"/>
                <p:cNvSpPr/>
                <p:nvPr/>
              </p:nvSpPr>
              <p:spPr>
                <a:xfrm>
                  <a:off x="734760" y="4697280"/>
                  <a:ext cx="655920" cy="59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c567a"/>
                    </a:gs>
                    <a:gs pos="50000">
                      <a:srgbClr val="709ee2"/>
                    </a:gs>
                    <a:gs pos="100000">
                      <a:srgbClr val="3c567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Oval 47"/>
                <p:cNvSpPr/>
                <p:nvPr/>
              </p:nvSpPr>
              <p:spPr>
                <a:xfrm>
                  <a:off x="734760" y="4698360"/>
                  <a:ext cx="655920" cy="59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09ee2"/>
                    </a:gs>
                    <a:gs pos="100000">
                      <a:srgbClr val="45648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0" name="Group 48"/>
              <p:cNvGrpSpPr/>
              <p:nvPr/>
            </p:nvGrpSpPr>
            <p:grpSpPr>
              <a:xfrm>
                <a:off x="775800" y="4725720"/>
                <a:ext cx="592560" cy="540360"/>
                <a:chOff x="775800" y="4725720"/>
                <a:chExt cx="592560" cy="540360"/>
              </a:xfrm>
            </p:grpSpPr>
            <p:sp>
              <p:nvSpPr>
                <p:cNvPr id="551" name="Oval 49"/>
                <p:cNvSpPr/>
                <p:nvPr/>
              </p:nvSpPr>
              <p:spPr>
                <a:xfrm>
                  <a:off x="775800" y="4735440"/>
                  <a:ext cx="592560" cy="530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52" name="Group 50"/>
                <p:cNvGrpSpPr/>
                <p:nvPr/>
              </p:nvGrpSpPr>
              <p:grpSpPr>
                <a:xfrm>
                  <a:off x="775800" y="4725720"/>
                  <a:ext cx="573480" cy="515160"/>
                  <a:chOff x="775800" y="4725720"/>
                  <a:chExt cx="573480" cy="515160"/>
                </a:xfrm>
              </p:grpSpPr>
              <p:sp>
                <p:nvSpPr>
                  <p:cNvPr id="553" name="Oval 51"/>
                  <p:cNvSpPr/>
                  <p:nvPr/>
                </p:nvSpPr>
                <p:spPr>
                  <a:xfrm>
                    <a:off x="775800" y="4725720"/>
                    <a:ext cx="573480" cy="515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Oval 52"/>
                  <p:cNvSpPr/>
                  <p:nvPr/>
                </p:nvSpPr>
                <p:spPr>
                  <a:xfrm>
                    <a:off x="783000" y="4728600"/>
                    <a:ext cx="559800" cy="502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Oval 53"/>
                  <p:cNvSpPr/>
                  <p:nvPr/>
                </p:nvSpPr>
                <p:spPr>
                  <a:xfrm>
                    <a:off x="788760" y="4733280"/>
                    <a:ext cx="532440" cy="469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Oval 54"/>
                  <p:cNvSpPr/>
                  <p:nvPr/>
                </p:nvSpPr>
                <p:spPr>
                  <a:xfrm>
                    <a:off x="820080" y="4746600"/>
                    <a:ext cx="47304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57" name="Text Box 55"/>
            <p:cNvSpPr/>
            <p:nvPr/>
          </p:nvSpPr>
          <p:spPr>
            <a:xfrm>
              <a:off x="872640" y="4762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58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559" name="AutoShape 54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Line 3"/>
          <p:cNvSpPr/>
          <p:nvPr/>
        </p:nvSpPr>
        <p:spPr>
          <a:xfrm>
            <a:off x="1763640" y="5589720"/>
            <a:ext cx="4800600" cy="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Факторы, способствующие развитию мультимодальных перевозок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2" name="Line 3"/>
          <p:cNvSpPr/>
          <p:nvPr/>
        </p:nvSpPr>
        <p:spPr>
          <a:xfrm>
            <a:off x="1476360" y="2421000"/>
            <a:ext cx="6622920" cy="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Text Box 4"/>
          <p:cNvSpPr/>
          <p:nvPr/>
        </p:nvSpPr>
        <p:spPr>
          <a:xfrm>
            <a:off x="1332000" y="1484280"/>
            <a:ext cx="741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должающаяся глобализация мировой экономики(поставщик и потребитель часто являются подразделениями одной компании или холдинга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но находятся в разных странах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а иногда и континентах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4" name="Group 5"/>
          <p:cNvGrpSpPr/>
          <p:nvPr/>
        </p:nvGrpSpPr>
        <p:grpSpPr>
          <a:xfrm>
            <a:off x="684360" y="1700280"/>
            <a:ext cx="685800" cy="679320"/>
            <a:chOff x="684360" y="1700280"/>
            <a:chExt cx="685800" cy="679320"/>
          </a:xfrm>
        </p:grpSpPr>
        <p:grpSp>
          <p:nvGrpSpPr>
            <p:cNvPr id="565" name="Group 6"/>
            <p:cNvGrpSpPr/>
            <p:nvPr/>
          </p:nvGrpSpPr>
          <p:grpSpPr>
            <a:xfrm>
              <a:off x="684360" y="1700280"/>
              <a:ext cx="685800" cy="679320"/>
              <a:chOff x="684360" y="1700280"/>
              <a:chExt cx="685800" cy="679320"/>
            </a:xfrm>
          </p:grpSpPr>
          <p:grpSp>
            <p:nvGrpSpPr>
              <p:cNvPr id="566" name="Group 7"/>
              <p:cNvGrpSpPr/>
              <p:nvPr/>
            </p:nvGrpSpPr>
            <p:grpSpPr>
              <a:xfrm>
                <a:off x="684360" y="1700280"/>
                <a:ext cx="685800" cy="679320"/>
                <a:chOff x="684360" y="1700280"/>
                <a:chExt cx="685800" cy="679320"/>
              </a:xfrm>
            </p:grpSpPr>
            <p:sp>
              <p:nvSpPr>
                <p:cNvPr id="567" name="Oval 8"/>
                <p:cNvSpPr/>
                <p:nvPr/>
              </p:nvSpPr>
              <p:spPr>
                <a:xfrm>
                  <a:off x="684360" y="170028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709ee2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Oval 9"/>
                <p:cNvSpPr/>
                <p:nvPr/>
              </p:nvSpPr>
              <p:spPr>
                <a:xfrm>
                  <a:off x="684360" y="170028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709ee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Oval 10"/>
                <p:cNvSpPr/>
                <p:nvPr/>
              </p:nvSpPr>
              <p:spPr>
                <a:xfrm>
                  <a:off x="729720" y="1744560"/>
                  <a:ext cx="594360" cy="59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c567a"/>
                    </a:gs>
                    <a:gs pos="50000">
                      <a:srgbClr val="709ee2"/>
                    </a:gs>
                    <a:gs pos="100000">
                      <a:srgbClr val="3c567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Oval 11"/>
                <p:cNvSpPr/>
                <p:nvPr/>
              </p:nvSpPr>
              <p:spPr>
                <a:xfrm>
                  <a:off x="729720" y="1745640"/>
                  <a:ext cx="594360" cy="59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09ee2"/>
                    </a:gs>
                    <a:gs pos="100000">
                      <a:srgbClr val="45648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1" name="Group 12"/>
              <p:cNvGrpSpPr/>
              <p:nvPr/>
            </p:nvGrpSpPr>
            <p:grpSpPr>
              <a:xfrm>
                <a:off x="767160" y="1773000"/>
                <a:ext cx="537120" cy="540360"/>
                <a:chOff x="767160" y="1773000"/>
                <a:chExt cx="537120" cy="540360"/>
              </a:xfrm>
            </p:grpSpPr>
            <p:sp>
              <p:nvSpPr>
                <p:cNvPr id="572" name="Oval 13"/>
                <p:cNvSpPr/>
                <p:nvPr/>
              </p:nvSpPr>
              <p:spPr>
                <a:xfrm>
                  <a:off x="767160" y="1782720"/>
                  <a:ext cx="537120" cy="530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73" name="Group 14"/>
                <p:cNvGrpSpPr/>
                <p:nvPr/>
              </p:nvGrpSpPr>
              <p:grpSpPr>
                <a:xfrm>
                  <a:off x="767160" y="1773000"/>
                  <a:ext cx="519840" cy="515160"/>
                  <a:chOff x="767160" y="1773000"/>
                  <a:chExt cx="519840" cy="515160"/>
                </a:xfrm>
              </p:grpSpPr>
              <p:sp>
                <p:nvSpPr>
                  <p:cNvPr id="574" name="Oval 15"/>
                  <p:cNvSpPr/>
                  <p:nvPr/>
                </p:nvSpPr>
                <p:spPr>
                  <a:xfrm>
                    <a:off x="767160" y="1773000"/>
                    <a:ext cx="519840" cy="515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Oval 16"/>
                  <p:cNvSpPr/>
                  <p:nvPr/>
                </p:nvSpPr>
                <p:spPr>
                  <a:xfrm>
                    <a:off x="773640" y="1775880"/>
                    <a:ext cx="507240" cy="502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Oval 17"/>
                  <p:cNvSpPr/>
                  <p:nvPr/>
                </p:nvSpPr>
                <p:spPr>
                  <a:xfrm>
                    <a:off x="779040" y="1780560"/>
                    <a:ext cx="482400" cy="469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Oval 18"/>
                  <p:cNvSpPr/>
                  <p:nvPr/>
                </p:nvSpPr>
                <p:spPr>
                  <a:xfrm>
                    <a:off x="807120" y="1793880"/>
                    <a:ext cx="42876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78" name="Text Box 19"/>
            <p:cNvSpPr/>
            <p:nvPr/>
          </p:nvSpPr>
          <p:spPr>
            <a:xfrm>
              <a:off x="838800" y="1809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9" name="Line 20"/>
          <p:cNvSpPr/>
          <p:nvPr/>
        </p:nvSpPr>
        <p:spPr>
          <a:xfrm>
            <a:off x="1403280" y="3645000"/>
            <a:ext cx="6626160" cy="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Text Box 21"/>
          <p:cNvSpPr/>
          <p:nvPr/>
        </p:nvSpPr>
        <p:spPr>
          <a:xfrm>
            <a:off x="1403280" y="2565360"/>
            <a:ext cx="7489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лияние и поглощение компаний ведет к укрупнению бизнеса и увеличению объема перевозимых грузов (возникает необходимость в использовании структур , обеспечивающих и контролирующих транспортные связи как внутри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так и вне компании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Line 22"/>
          <p:cNvSpPr/>
          <p:nvPr/>
        </p:nvSpPr>
        <p:spPr>
          <a:xfrm>
            <a:off x="1547640" y="4724280"/>
            <a:ext cx="6553440" cy="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Text Box 23"/>
          <p:cNvSpPr/>
          <p:nvPr/>
        </p:nvSpPr>
        <p:spPr>
          <a:xfrm>
            <a:off x="1403280" y="4869000"/>
            <a:ext cx="5977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обходимость контролировать количество сырья и продукции, находящейся в процессе транспортировки и растущий спрос на услуги  по доставке груза «от двери-до-двери»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Droid Sans Fallback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Line 24"/>
          <p:cNvSpPr/>
          <p:nvPr/>
        </p:nvSpPr>
        <p:spPr>
          <a:xfrm>
            <a:off x="1476360" y="5950080"/>
            <a:ext cx="4800600" cy="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 Box 25"/>
          <p:cNvSpPr/>
          <p:nvPr/>
        </p:nvSpPr>
        <p:spPr>
          <a:xfrm>
            <a:off x="1403280" y="3645000"/>
            <a:ext cx="7345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страя конкурентная борьба ,требующая удешевления расходов на перевозку сырья и готовой продукции(достаточный объем и регулярность грузопотоков может являться причиной получения тарифных скидок)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5" name="Group 26"/>
          <p:cNvGrpSpPr/>
          <p:nvPr/>
        </p:nvGrpSpPr>
        <p:grpSpPr>
          <a:xfrm>
            <a:off x="684360" y="2708280"/>
            <a:ext cx="685800" cy="685800"/>
            <a:chOff x="684360" y="2708280"/>
            <a:chExt cx="685800" cy="685800"/>
          </a:xfrm>
        </p:grpSpPr>
        <p:grpSp>
          <p:nvGrpSpPr>
            <p:cNvPr id="586" name="Group 27"/>
            <p:cNvGrpSpPr/>
            <p:nvPr/>
          </p:nvGrpSpPr>
          <p:grpSpPr>
            <a:xfrm>
              <a:off x="684360" y="2708280"/>
              <a:ext cx="685800" cy="685800"/>
              <a:chOff x="684360" y="2708280"/>
              <a:chExt cx="685800" cy="685800"/>
            </a:xfrm>
          </p:grpSpPr>
          <p:grpSp>
            <p:nvGrpSpPr>
              <p:cNvPr id="587" name="Group 28"/>
              <p:cNvGrpSpPr/>
              <p:nvPr/>
            </p:nvGrpSpPr>
            <p:grpSpPr>
              <a:xfrm>
                <a:off x="684360" y="2708280"/>
                <a:ext cx="685800" cy="685800"/>
                <a:chOff x="684360" y="2708280"/>
                <a:chExt cx="685800" cy="685800"/>
              </a:xfrm>
            </p:grpSpPr>
            <p:sp>
              <p:nvSpPr>
                <p:cNvPr id="588" name="Oval 29"/>
                <p:cNvSpPr/>
                <p:nvPr/>
              </p:nvSpPr>
              <p:spPr>
                <a:xfrm>
                  <a:off x="684360" y="27082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3b9d81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Oval 30"/>
                <p:cNvSpPr/>
                <p:nvPr/>
              </p:nvSpPr>
              <p:spPr>
                <a:xfrm>
                  <a:off x="684360" y="27082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3b9d8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Oval 31"/>
                <p:cNvSpPr/>
                <p:nvPr/>
              </p:nvSpPr>
              <p:spPr>
                <a:xfrm>
                  <a:off x="729720" y="2752920"/>
                  <a:ext cx="594360" cy="59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5445"/>
                    </a:gs>
                    <a:gs pos="50000">
                      <a:srgbClr val="3b9d81"/>
                    </a:gs>
                    <a:gs pos="100000">
                      <a:srgbClr val="205445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Oval 32"/>
                <p:cNvSpPr/>
                <p:nvPr/>
              </p:nvSpPr>
              <p:spPr>
                <a:xfrm>
                  <a:off x="729720" y="2754000"/>
                  <a:ext cx="594360" cy="59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9d81"/>
                    </a:gs>
                    <a:gs pos="100000">
                      <a:srgbClr val="25625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2" name="Group 33"/>
              <p:cNvGrpSpPr/>
              <p:nvPr/>
            </p:nvGrpSpPr>
            <p:grpSpPr>
              <a:xfrm>
                <a:off x="762840" y="2787480"/>
                <a:ext cx="537120" cy="545400"/>
                <a:chOff x="762840" y="2787480"/>
                <a:chExt cx="537120" cy="545400"/>
              </a:xfrm>
            </p:grpSpPr>
            <p:sp>
              <p:nvSpPr>
                <p:cNvPr id="593" name="Oval 34"/>
                <p:cNvSpPr/>
                <p:nvPr/>
              </p:nvSpPr>
              <p:spPr>
                <a:xfrm>
                  <a:off x="762840" y="2797560"/>
                  <a:ext cx="537120" cy="535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94" name="Group 35"/>
                <p:cNvGrpSpPr/>
                <p:nvPr/>
              </p:nvGrpSpPr>
              <p:grpSpPr>
                <a:xfrm>
                  <a:off x="762840" y="2787480"/>
                  <a:ext cx="519840" cy="519840"/>
                  <a:chOff x="762840" y="2787480"/>
                  <a:chExt cx="519840" cy="519840"/>
                </a:xfrm>
              </p:grpSpPr>
              <p:sp>
                <p:nvSpPr>
                  <p:cNvPr id="595" name="Oval 36"/>
                  <p:cNvSpPr/>
                  <p:nvPr/>
                </p:nvSpPr>
                <p:spPr>
                  <a:xfrm>
                    <a:off x="762840" y="2787480"/>
                    <a:ext cx="519840" cy="51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Oval 37"/>
                  <p:cNvSpPr/>
                  <p:nvPr/>
                </p:nvSpPr>
                <p:spPr>
                  <a:xfrm>
                    <a:off x="769320" y="2790360"/>
                    <a:ext cx="507240" cy="506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Oval 38"/>
                  <p:cNvSpPr/>
                  <p:nvPr/>
                </p:nvSpPr>
                <p:spPr>
                  <a:xfrm>
                    <a:off x="774720" y="2795040"/>
                    <a:ext cx="482400" cy="473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Oval 39"/>
                  <p:cNvSpPr/>
                  <p:nvPr/>
                </p:nvSpPr>
                <p:spPr>
                  <a:xfrm>
                    <a:off x="802800" y="2808360"/>
                    <a:ext cx="428760" cy="38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99" name="Text Box 40"/>
            <p:cNvSpPr/>
            <p:nvPr/>
          </p:nvSpPr>
          <p:spPr>
            <a:xfrm>
              <a:off x="849960" y="2828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0" name="Group 41"/>
          <p:cNvGrpSpPr/>
          <p:nvPr/>
        </p:nvGrpSpPr>
        <p:grpSpPr>
          <a:xfrm>
            <a:off x="684360" y="3933720"/>
            <a:ext cx="685800" cy="679320"/>
            <a:chOff x="684360" y="3933720"/>
            <a:chExt cx="685800" cy="679320"/>
          </a:xfrm>
        </p:grpSpPr>
        <p:grpSp>
          <p:nvGrpSpPr>
            <p:cNvPr id="601" name="Group 42"/>
            <p:cNvGrpSpPr/>
            <p:nvPr/>
          </p:nvGrpSpPr>
          <p:grpSpPr>
            <a:xfrm>
              <a:off x="684360" y="3933720"/>
              <a:ext cx="685800" cy="679320"/>
              <a:chOff x="684360" y="3933720"/>
              <a:chExt cx="685800" cy="679320"/>
            </a:xfrm>
          </p:grpSpPr>
          <p:grpSp>
            <p:nvGrpSpPr>
              <p:cNvPr id="602" name="Group 43"/>
              <p:cNvGrpSpPr/>
              <p:nvPr/>
            </p:nvGrpSpPr>
            <p:grpSpPr>
              <a:xfrm>
                <a:off x="684360" y="3933720"/>
                <a:ext cx="685800" cy="679320"/>
                <a:chOff x="684360" y="3933720"/>
                <a:chExt cx="685800" cy="679320"/>
              </a:xfrm>
            </p:grpSpPr>
            <p:sp>
              <p:nvSpPr>
                <p:cNvPr id="603" name="Oval 44"/>
                <p:cNvSpPr/>
                <p:nvPr/>
              </p:nvSpPr>
              <p:spPr>
                <a:xfrm>
                  <a:off x="684360" y="393372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709ee2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Oval 45"/>
                <p:cNvSpPr/>
                <p:nvPr/>
              </p:nvSpPr>
              <p:spPr>
                <a:xfrm>
                  <a:off x="684360" y="393372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709ee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Oval 46"/>
                <p:cNvSpPr/>
                <p:nvPr/>
              </p:nvSpPr>
              <p:spPr>
                <a:xfrm>
                  <a:off x="729720" y="3978000"/>
                  <a:ext cx="594360" cy="59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c567a"/>
                    </a:gs>
                    <a:gs pos="50000">
                      <a:srgbClr val="709ee2"/>
                    </a:gs>
                    <a:gs pos="100000">
                      <a:srgbClr val="3c567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Oval 47"/>
                <p:cNvSpPr/>
                <p:nvPr/>
              </p:nvSpPr>
              <p:spPr>
                <a:xfrm>
                  <a:off x="729720" y="3979080"/>
                  <a:ext cx="594360" cy="59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09ee2"/>
                    </a:gs>
                    <a:gs pos="100000">
                      <a:srgbClr val="45648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7" name="Group 48"/>
              <p:cNvGrpSpPr/>
              <p:nvPr/>
            </p:nvGrpSpPr>
            <p:grpSpPr>
              <a:xfrm>
                <a:off x="767160" y="4006440"/>
                <a:ext cx="537120" cy="540360"/>
                <a:chOff x="767160" y="4006440"/>
                <a:chExt cx="537120" cy="540360"/>
              </a:xfrm>
            </p:grpSpPr>
            <p:sp>
              <p:nvSpPr>
                <p:cNvPr id="608" name="Oval 49"/>
                <p:cNvSpPr/>
                <p:nvPr/>
              </p:nvSpPr>
              <p:spPr>
                <a:xfrm>
                  <a:off x="767160" y="4016160"/>
                  <a:ext cx="537120" cy="530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09" name="Group 50"/>
                <p:cNvGrpSpPr/>
                <p:nvPr/>
              </p:nvGrpSpPr>
              <p:grpSpPr>
                <a:xfrm>
                  <a:off x="767160" y="4006440"/>
                  <a:ext cx="519840" cy="515160"/>
                  <a:chOff x="767160" y="4006440"/>
                  <a:chExt cx="519840" cy="515160"/>
                </a:xfrm>
              </p:grpSpPr>
              <p:sp>
                <p:nvSpPr>
                  <p:cNvPr id="610" name="Oval 51"/>
                  <p:cNvSpPr/>
                  <p:nvPr/>
                </p:nvSpPr>
                <p:spPr>
                  <a:xfrm>
                    <a:off x="767160" y="4006440"/>
                    <a:ext cx="519840" cy="515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Oval 52"/>
                  <p:cNvSpPr/>
                  <p:nvPr/>
                </p:nvSpPr>
                <p:spPr>
                  <a:xfrm>
                    <a:off x="773640" y="4009320"/>
                    <a:ext cx="507240" cy="502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Oval 53"/>
                  <p:cNvSpPr/>
                  <p:nvPr/>
                </p:nvSpPr>
                <p:spPr>
                  <a:xfrm>
                    <a:off x="779040" y="4014000"/>
                    <a:ext cx="482400" cy="469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Oval 54"/>
                  <p:cNvSpPr/>
                  <p:nvPr/>
                </p:nvSpPr>
                <p:spPr>
                  <a:xfrm>
                    <a:off x="807120" y="4027320"/>
                    <a:ext cx="42876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14" name="Text Box 55"/>
            <p:cNvSpPr/>
            <p:nvPr/>
          </p:nvSpPr>
          <p:spPr>
            <a:xfrm>
              <a:off x="838800" y="4043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5" name="Group 56"/>
          <p:cNvGrpSpPr/>
          <p:nvPr/>
        </p:nvGrpSpPr>
        <p:grpSpPr>
          <a:xfrm>
            <a:off x="684360" y="5013360"/>
            <a:ext cx="685800" cy="685800"/>
            <a:chOff x="684360" y="5013360"/>
            <a:chExt cx="685800" cy="685800"/>
          </a:xfrm>
        </p:grpSpPr>
        <p:grpSp>
          <p:nvGrpSpPr>
            <p:cNvPr id="616" name="Group 57"/>
            <p:cNvGrpSpPr/>
            <p:nvPr/>
          </p:nvGrpSpPr>
          <p:grpSpPr>
            <a:xfrm>
              <a:off x="684360" y="5013360"/>
              <a:ext cx="685800" cy="685800"/>
              <a:chOff x="684360" y="5013360"/>
              <a:chExt cx="685800" cy="685800"/>
            </a:xfrm>
          </p:grpSpPr>
          <p:grpSp>
            <p:nvGrpSpPr>
              <p:cNvPr id="617" name="Group 58"/>
              <p:cNvGrpSpPr/>
              <p:nvPr/>
            </p:nvGrpSpPr>
            <p:grpSpPr>
              <a:xfrm>
                <a:off x="684360" y="5013360"/>
                <a:ext cx="685800" cy="685800"/>
                <a:chOff x="684360" y="5013360"/>
                <a:chExt cx="685800" cy="685800"/>
              </a:xfrm>
            </p:grpSpPr>
            <p:sp>
              <p:nvSpPr>
                <p:cNvPr id="618" name="Oval 59"/>
                <p:cNvSpPr/>
                <p:nvPr/>
              </p:nvSpPr>
              <p:spPr>
                <a:xfrm>
                  <a:off x="684360" y="501336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3b9d81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Oval 60"/>
                <p:cNvSpPr/>
                <p:nvPr/>
              </p:nvSpPr>
              <p:spPr>
                <a:xfrm>
                  <a:off x="684360" y="501336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3b9d8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Oval 61"/>
                <p:cNvSpPr/>
                <p:nvPr/>
              </p:nvSpPr>
              <p:spPr>
                <a:xfrm>
                  <a:off x="729720" y="5058000"/>
                  <a:ext cx="594360" cy="59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5445"/>
                    </a:gs>
                    <a:gs pos="50000">
                      <a:srgbClr val="3b9d81"/>
                    </a:gs>
                    <a:gs pos="100000">
                      <a:srgbClr val="205445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Oval 62"/>
                <p:cNvSpPr/>
                <p:nvPr/>
              </p:nvSpPr>
              <p:spPr>
                <a:xfrm>
                  <a:off x="729720" y="5059080"/>
                  <a:ext cx="594360" cy="59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9d81"/>
                    </a:gs>
                    <a:gs pos="100000">
                      <a:srgbClr val="25625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2" name="Group 63"/>
              <p:cNvGrpSpPr/>
              <p:nvPr/>
            </p:nvGrpSpPr>
            <p:grpSpPr>
              <a:xfrm>
                <a:off x="762840" y="5092560"/>
                <a:ext cx="537120" cy="545400"/>
                <a:chOff x="762840" y="5092560"/>
                <a:chExt cx="537120" cy="545400"/>
              </a:xfrm>
            </p:grpSpPr>
            <p:sp>
              <p:nvSpPr>
                <p:cNvPr id="623" name="Oval 64"/>
                <p:cNvSpPr/>
                <p:nvPr/>
              </p:nvSpPr>
              <p:spPr>
                <a:xfrm>
                  <a:off x="762840" y="5102640"/>
                  <a:ext cx="537120" cy="535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24" name="Group 65"/>
                <p:cNvGrpSpPr/>
                <p:nvPr/>
              </p:nvGrpSpPr>
              <p:grpSpPr>
                <a:xfrm>
                  <a:off x="762840" y="5092560"/>
                  <a:ext cx="519840" cy="519840"/>
                  <a:chOff x="762840" y="5092560"/>
                  <a:chExt cx="519840" cy="519840"/>
                </a:xfrm>
              </p:grpSpPr>
              <p:sp>
                <p:nvSpPr>
                  <p:cNvPr id="625" name="Oval 66"/>
                  <p:cNvSpPr/>
                  <p:nvPr/>
                </p:nvSpPr>
                <p:spPr>
                  <a:xfrm>
                    <a:off x="762840" y="5092560"/>
                    <a:ext cx="519840" cy="51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Oval 67"/>
                  <p:cNvSpPr/>
                  <p:nvPr/>
                </p:nvSpPr>
                <p:spPr>
                  <a:xfrm>
                    <a:off x="769320" y="5095440"/>
                    <a:ext cx="507240" cy="506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Oval 68"/>
                  <p:cNvSpPr/>
                  <p:nvPr/>
                </p:nvSpPr>
                <p:spPr>
                  <a:xfrm>
                    <a:off x="774720" y="5100120"/>
                    <a:ext cx="482400" cy="473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Oval 69"/>
                  <p:cNvSpPr/>
                  <p:nvPr/>
                </p:nvSpPr>
                <p:spPr>
                  <a:xfrm>
                    <a:off x="802800" y="5113440"/>
                    <a:ext cx="428760" cy="38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29" name="Text Box 70"/>
            <p:cNvSpPr/>
            <p:nvPr/>
          </p:nvSpPr>
          <p:spPr>
            <a:xfrm>
              <a:off x="827640" y="5111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30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631" name="AutoShape 72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Основные </a:t>
            </a:r>
            <a:br>
              <a:rPr sz="3200"/>
            </a:b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горно- металлургические грузы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3" name="Line 3"/>
          <p:cNvSpPr/>
          <p:nvPr/>
        </p:nvSpPr>
        <p:spPr>
          <a:xfrm>
            <a:off x="2362320" y="2417760"/>
            <a:ext cx="5883120" cy="468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4"/>
          <p:cNvSpPr/>
          <p:nvPr/>
        </p:nvSpPr>
        <p:spPr>
          <a:xfrm>
            <a:off x="2916360" y="1927080"/>
            <a:ext cx="508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Металлургические угли и кок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5" name="Group 5"/>
          <p:cNvGrpSpPr/>
          <p:nvPr/>
        </p:nvGrpSpPr>
        <p:grpSpPr>
          <a:xfrm>
            <a:off x="1763640" y="1773360"/>
            <a:ext cx="685800" cy="679320"/>
            <a:chOff x="1763640" y="1773360"/>
            <a:chExt cx="685800" cy="679320"/>
          </a:xfrm>
        </p:grpSpPr>
        <p:grpSp>
          <p:nvGrpSpPr>
            <p:cNvPr id="636" name="Group 6"/>
            <p:cNvGrpSpPr/>
            <p:nvPr/>
          </p:nvGrpSpPr>
          <p:grpSpPr>
            <a:xfrm>
              <a:off x="1763640" y="1773360"/>
              <a:ext cx="685800" cy="679320"/>
              <a:chOff x="1763640" y="1773360"/>
              <a:chExt cx="685800" cy="679320"/>
            </a:xfrm>
          </p:grpSpPr>
          <p:grpSp>
            <p:nvGrpSpPr>
              <p:cNvPr id="637" name="Group 7"/>
              <p:cNvGrpSpPr/>
              <p:nvPr/>
            </p:nvGrpSpPr>
            <p:grpSpPr>
              <a:xfrm>
                <a:off x="1763640" y="1773360"/>
                <a:ext cx="685800" cy="679320"/>
                <a:chOff x="1763640" y="1773360"/>
                <a:chExt cx="685800" cy="679320"/>
              </a:xfrm>
            </p:grpSpPr>
            <p:sp>
              <p:nvSpPr>
                <p:cNvPr id="638" name="Oval 8"/>
                <p:cNvSpPr/>
                <p:nvPr/>
              </p:nvSpPr>
              <p:spPr>
                <a:xfrm>
                  <a:off x="1763640" y="177336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709ee2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Oval 9"/>
                <p:cNvSpPr/>
                <p:nvPr/>
              </p:nvSpPr>
              <p:spPr>
                <a:xfrm>
                  <a:off x="1763640" y="177336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709ee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Oval 10"/>
                <p:cNvSpPr/>
                <p:nvPr/>
              </p:nvSpPr>
              <p:spPr>
                <a:xfrm>
                  <a:off x="1809000" y="1817640"/>
                  <a:ext cx="594360" cy="59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c567a"/>
                    </a:gs>
                    <a:gs pos="50000">
                      <a:srgbClr val="709ee2"/>
                    </a:gs>
                    <a:gs pos="100000">
                      <a:srgbClr val="3c567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Oval 11"/>
                <p:cNvSpPr/>
                <p:nvPr/>
              </p:nvSpPr>
              <p:spPr>
                <a:xfrm>
                  <a:off x="1809000" y="1818720"/>
                  <a:ext cx="594360" cy="59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09ee2"/>
                    </a:gs>
                    <a:gs pos="100000">
                      <a:srgbClr val="45648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2" name="Group 12"/>
              <p:cNvGrpSpPr/>
              <p:nvPr/>
            </p:nvGrpSpPr>
            <p:grpSpPr>
              <a:xfrm>
                <a:off x="1846440" y="1846080"/>
                <a:ext cx="537120" cy="540360"/>
                <a:chOff x="1846440" y="1846080"/>
                <a:chExt cx="537120" cy="540360"/>
              </a:xfrm>
            </p:grpSpPr>
            <p:sp>
              <p:nvSpPr>
                <p:cNvPr id="643" name="Oval 13"/>
                <p:cNvSpPr/>
                <p:nvPr/>
              </p:nvSpPr>
              <p:spPr>
                <a:xfrm>
                  <a:off x="1846440" y="1855800"/>
                  <a:ext cx="537120" cy="530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44" name="Group 14"/>
                <p:cNvGrpSpPr/>
                <p:nvPr/>
              </p:nvGrpSpPr>
              <p:grpSpPr>
                <a:xfrm>
                  <a:off x="1846440" y="1846080"/>
                  <a:ext cx="519840" cy="515160"/>
                  <a:chOff x="1846440" y="1846080"/>
                  <a:chExt cx="519840" cy="515160"/>
                </a:xfrm>
              </p:grpSpPr>
              <p:sp>
                <p:nvSpPr>
                  <p:cNvPr id="645" name="Oval 15"/>
                  <p:cNvSpPr/>
                  <p:nvPr/>
                </p:nvSpPr>
                <p:spPr>
                  <a:xfrm>
                    <a:off x="1846440" y="1846080"/>
                    <a:ext cx="519840" cy="515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Oval 16"/>
                  <p:cNvSpPr/>
                  <p:nvPr/>
                </p:nvSpPr>
                <p:spPr>
                  <a:xfrm>
                    <a:off x="1852920" y="1848960"/>
                    <a:ext cx="507240" cy="502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Oval 17"/>
                  <p:cNvSpPr/>
                  <p:nvPr/>
                </p:nvSpPr>
                <p:spPr>
                  <a:xfrm>
                    <a:off x="1858320" y="1853640"/>
                    <a:ext cx="482400" cy="469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Oval 18"/>
                  <p:cNvSpPr/>
                  <p:nvPr/>
                </p:nvSpPr>
                <p:spPr>
                  <a:xfrm>
                    <a:off x="1886400" y="1866960"/>
                    <a:ext cx="42876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49" name="Text Box 19"/>
            <p:cNvSpPr/>
            <p:nvPr/>
          </p:nvSpPr>
          <p:spPr>
            <a:xfrm>
              <a:off x="1918080" y="1882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0" name="Line 20"/>
          <p:cNvSpPr/>
          <p:nvPr/>
        </p:nvSpPr>
        <p:spPr>
          <a:xfrm flipV="1">
            <a:off x="2362320" y="3285720"/>
            <a:ext cx="5883120" cy="1260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 Box 21"/>
          <p:cNvSpPr/>
          <p:nvPr/>
        </p:nvSpPr>
        <p:spPr>
          <a:xfrm>
            <a:off x="2843280" y="2832120"/>
            <a:ext cx="514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Металлургическое сырь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Line 22"/>
          <p:cNvSpPr/>
          <p:nvPr/>
        </p:nvSpPr>
        <p:spPr>
          <a:xfrm>
            <a:off x="2268360" y="4292640"/>
            <a:ext cx="5810400" cy="2520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Text Box 23"/>
          <p:cNvSpPr/>
          <p:nvPr/>
        </p:nvSpPr>
        <p:spPr>
          <a:xfrm>
            <a:off x="2843280" y="350028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Грузы черных и цветных металл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Line 24"/>
          <p:cNvSpPr/>
          <p:nvPr/>
        </p:nvSpPr>
        <p:spPr>
          <a:xfrm>
            <a:off x="2362320" y="5203800"/>
            <a:ext cx="4800600" cy="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Text Box 25"/>
          <p:cNvSpPr/>
          <p:nvPr/>
        </p:nvSpPr>
        <p:spPr>
          <a:xfrm>
            <a:off x="2843280" y="4714920"/>
            <a:ext cx="558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Металлическая труб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6" name="Group 26"/>
          <p:cNvGrpSpPr/>
          <p:nvPr/>
        </p:nvGrpSpPr>
        <p:grpSpPr>
          <a:xfrm>
            <a:off x="1763640" y="2708280"/>
            <a:ext cx="685800" cy="685800"/>
            <a:chOff x="1763640" y="2708280"/>
            <a:chExt cx="685800" cy="685800"/>
          </a:xfrm>
        </p:grpSpPr>
        <p:grpSp>
          <p:nvGrpSpPr>
            <p:cNvPr id="657" name="Group 27"/>
            <p:cNvGrpSpPr/>
            <p:nvPr/>
          </p:nvGrpSpPr>
          <p:grpSpPr>
            <a:xfrm>
              <a:off x="1763640" y="2708280"/>
              <a:ext cx="685800" cy="685800"/>
              <a:chOff x="1763640" y="2708280"/>
              <a:chExt cx="685800" cy="685800"/>
            </a:xfrm>
          </p:grpSpPr>
          <p:grpSp>
            <p:nvGrpSpPr>
              <p:cNvPr id="658" name="Group 28"/>
              <p:cNvGrpSpPr/>
              <p:nvPr/>
            </p:nvGrpSpPr>
            <p:grpSpPr>
              <a:xfrm>
                <a:off x="1763640" y="2708280"/>
                <a:ext cx="685800" cy="685800"/>
                <a:chOff x="1763640" y="2708280"/>
                <a:chExt cx="685800" cy="685800"/>
              </a:xfrm>
            </p:grpSpPr>
            <p:sp>
              <p:nvSpPr>
                <p:cNvPr id="659" name="Oval 29"/>
                <p:cNvSpPr/>
                <p:nvPr/>
              </p:nvSpPr>
              <p:spPr>
                <a:xfrm>
                  <a:off x="1763640" y="27082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3b9d81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Oval 30"/>
                <p:cNvSpPr/>
                <p:nvPr/>
              </p:nvSpPr>
              <p:spPr>
                <a:xfrm>
                  <a:off x="1763640" y="27082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3b9d8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Oval 31"/>
                <p:cNvSpPr/>
                <p:nvPr/>
              </p:nvSpPr>
              <p:spPr>
                <a:xfrm>
                  <a:off x="1809000" y="2752920"/>
                  <a:ext cx="594360" cy="59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5445"/>
                    </a:gs>
                    <a:gs pos="50000">
                      <a:srgbClr val="3b9d81"/>
                    </a:gs>
                    <a:gs pos="100000">
                      <a:srgbClr val="205445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Oval 32"/>
                <p:cNvSpPr/>
                <p:nvPr/>
              </p:nvSpPr>
              <p:spPr>
                <a:xfrm>
                  <a:off x="1809000" y="2754000"/>
                  <a:ext cx="594360" cy="59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9d81"/>
                    </a:gs>
                    <a:gs pos="100000">
                      <a:srgbClr val="25625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3" name="Group 33"/>
              <p:cNvGrpSpPr/>
              <p:nvPr/>
            </p:nvGrpSpPr>
            <p:grpSpPr>
              <a:xfrm>
                <a:off x="1842120" y="2787480"/>
                <a:ext cx="537120" cy="545400"/>
                <a:chOff x="1842120" y="2787480"/>
                <a:chExt cx="537120" cy="545400"/>
              </a:xfrm>
            </p:grpSpPr>
            <p:sp>
              <p:nvSpPr>
                <p:cNvPr id="664" name="Oval 34"/>
                <p:cNvSpPr/>
                <p:nvPr/>
              </p:nvSpPr>
              <p:spPr>
                <a:xfrm>
                  <a:off x="1842120" y="2797560"/>
                  <a:ext cx="537120" cy="535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65" name="Group 35"/>
                <p:cNvGrpSpPr/>
                <p:nvPr/>
              </p:nvGrpSpPr>
              <p:grpSpPr>
                <a:xfrm>
                  <a:off x="1842120" y="2787480"/>
                  <a:ext cx="519840" cy="519840"/>
                  <a:chOff x="1842120" y="2787480"/>
                  <a:chExt cx="519840" cy="519840"/>
                </a:xfrm>
              </p:grpSpPr>
              <p:sp>
                <p:nvSpPr>
                  <p:cNvPr id="666" name="Oval 36"/>
                  <p:cNvSpPr/>
                  <p:nvPr/>
                </p:nvSpPr>
                <p:spPr>
                  <a:xfrm>
                    <a:off x="1842120" y="2787480"/>
                    <a:ext cx="519840" cy="51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7" name="Oval 37"/>
                  <p:cNvSpPr/>
                  <p:nvPr/>
                </p:nvSpPr>
                <p:spPr>
                  <a:xfrm>
                    <a:off x="1848600" y="2790360"/>
                    <a:ext cx="507240" cy="506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8" name="Oval 38"/>
                  <p:cNvSpPr/>
                  <p:nvPr/>
                </p:nvSpPr>
                <p:spPr>
                  <a:xfrm>
                    <a:off x="1854000" y="2795040"/>
                    <a:ext cx="482400" cy="473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9" name="Oval 39"/>
                  <p:cNvSpPr/>
                  <p:nvPr/>
                </p:nvSpPr>
                <p:spPr>
                  <a:xfrm>
                    <a:off x="1882080" y="2808360"/>
                    <a:ext cx="428760" cy="38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70" name="Text Box 40"/>
            <p:cNvSpPr/>
            <p:nvPr/>
          </p:nvSpPr>
          <p:spPr>
            <a:xfrm>
              <a:off x="1929240" y="2828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1" name="Group 41"/>
          <p:cNvGrpSpPr/>
          <p:nvPr/>
        </p:nvGrpSpPr>
        <p:grpSpPr>
          <a:xfrm>
            <a:off x="1763640" y="3645000"/>
            <a:ext cx="685800" cy="679320"/>
            <a:chOff x="1763640" y="3645000"/>
            <a:chExt cx="685800" cy="679320"/>
          </a:xfrm>
        </p:grpSpPr>
        <p:grpSp>
          <p:nvGrpSpPr>
            <p:cNvPr id="672" name="Group 42"/>
            <p:cNvGrpSpPr/>
            <p:nvPr/>
          </p:nvGrpSpPr>
          <p:grpSpPr>
            <a:xfrm>
              <a:off x="1763640" y="3645000"/>
              <a:ext cx="685800" cy="679320"/>
              <a:chOff x="1763640" y="3645000"/>
              <a:chExt cx="685800" cy="679320"/>
            </a:xfrm>
          </p:grpSpPr>
          <p:grpSp>
            <p:nvGrpSpPr>
              <p:cNvPr id="673" name="Group 43"/>
              <p:cNvGrpSpPr/>
              <p:nvPr/>
            </p:nvGrpSpPr>
            <p:grpSpPr>
              <a:xfrm>
                <a:off x="1763640" y="3645000"/>
                <a:ext cx="685800" cy="679320"/>
                <a:chOff x="1763640" y="3645000"/>
                <a:chExt cx="685800" cy="679320"/>
              </a:xfrm>
            </p:grpSpPr>
            <p:sp>
              <p:nvSpPr>
                <p:cNvPr id="674" name="Oval 44"/>
                <p:cNvSpPr/>
                <p:nvPr/>
              </p:nvSpPr>
              <p:spPr>
                <a:xfrm>
                  <a:off x="1763640" y="364500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709ee2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Oval 45"/>
                <p:cNvSpPr/>
                <p:nvPr/>
              </p:nvSpPr>
              <p:spPr>
                <a:xfrm>
                  <a:off x="1763640" y="364500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709ee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Oval 46"/>
                <p:cNvSpPr/>
                <p:nvPr/>
              </p:nvSpPr>
              <p:spPr>
                <a:xfrm>
                  <a:off x="1809000" y="3689280"/>
                  <a:ext cx="594360" cy="59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c567a"/>
                    </a:gs>
                    <a:gs pos="50000">
                      <a:srgbClr val="709ee2"/>
                    </a:gs>
                    <a:gs pos="100000">
                      <a:srgbClr val="3c567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7" name="Oval 47"/>
                <p:cNvSpPr/>
                <p:nvPr/>
              </p:nvSpPr>
              <p:spPr>
                <a:xfrm>
                  <a:off x="1809000" y="3690360"/>
                  <a:ext cx="594360" cy="59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09ee2"/>
                    </a:gs>
                    <a:gs pos="100000">
                      <a:srgbClr val="45648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8" name="Group 48"/>
              <p:cNvGrpSpPr/>
              <p:nvPr/>
            </p:nvGrpSpPr>
            <p:grpSpPr>
              <a:xfrm>
                <a:off x="1846440" y="3717720"/>
                <a:ext cx="537120" cy="540360"/>
                <a:chOff x="1846440" y="3717720"/>
                <a:chExt cx="537120" cy="540360"/>
              </a:xfrm>
            </p:grpSpPr>
            <p:sp>
              <p:nvSpPr>
                <p:cNvPr id="679" name="Oval 49"/>
                <p:cNvSpPr/>
                <p:nvPr/>
              </p:nvSpPr>
              <p:spPr>
                <a:xfrm>
                  <a:off x="1846440" y="3727440"/>
                  <a:ext cx="537120" cy="530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80" name="Group 50"/>
                <p:cNvGrpSpPr/>
                <p:nvPr/>
              </p:nvGrpSpPr>
              <p:grpSpPr>
                <a:xfrm>
                  <a:off x="1846440" y="3717720"/>
                  <a:ext cx="519840" cy="515160"/>
                  <a:chOff x="1846440" y="3717720"/>
                  <a:chExt cx="519840" cy="515160"/>
                </a:xfrm>
              </p:grpSpPr>
              <p:sp>
                <p:nvSpPr>
                  <p:cNvPr id="681" name="Oval 51"/>
                  <p:cNvSpPr/>
                  <p:nvPr/>
                </p:nvSpPr>
                <p:spPr>
                  <a:xfrm>
                    <a:off x="1846440" y="3717720"/>
                    <a:ext cx="519840" cy="515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" name="Oval 52"/>
                  <p:cNvSpPr/>
                  <p:nvPr/>
                </p:nvSpPr>
                <p:spPr>
                  <a:xfrm>
                    <a:off x="1852920" y="3720600"/>
                    <a:ext cx="507240" cy="502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" name="Oval 53"/>
                  <p:cNvSpPr/>
                  <p:nvPr/>
                </p:nvSpPr>
                <p:spPr>
                  <a:xfrm>
                    <a:off x="1858320" y="3725280"/>
                    <a:ext cx="482400" cy="469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" name="Oval 54"/>
                  <p:cNvSpPr/>
                  <p:nvPr/>
                </p:nvSpPr>
                <p:spPr>
                  <a:xfrm>
                    <a:off x="1886400" y="3738600"/>
                    <a:ext cx="42876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85" name="Text Box 55"/>
            <p:cNvSpPr/>
            <p:nvPr/>
          </p:nvSpPr>
          <p:spPr>
            <a:xfrm>
              <a:off x="1918080" y="3754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6" name="Group 56"/>
          <p:cNvGrpSpPr/>
          <p:nvPr/>
        </p:nvGrpSpPr>
        <p:grpSpPr>
          <a:xfrm>
            <a:off x="1763640" y="4581360"/>
            <a:ext cx="685800" cy="685800"/>
            <a:chOff x="1763640" y="4581360"/>
            <a:chExt cx="685800" cy="685800"/>
          </a:xfrm>
        </p:grpSpPr>
        <p:grpSp>
          <p:nvGrpSpPr>
            <p:cNvPr id="687" name="Group 57"/>
            <p:cNvGrpSpPr/>
            <p:nvPr/>
          </p:nvGrpSpPr>
          <p:grpSpPr>
            <a:xfrm>
              <a:off x="1763640" y="4581360"/>
              <a:ext cx="685800" cy="685800"/>
              <a:chOff x="1763640" y="4581360"/>
              <a:chExt cx="685800" cy="685800"/>
            </a:xfrm>
          </p:grpSpPr>
          <p:grpSp>
            <p:nvGrpSpPr>
              <p:cNvPr id="688" name="Group 58"/>
              <p:cNvGrpSpPr/>
              <p:nvPr/>
            </p:nvGrpSpPr>
            <p:grpSpPr>
              <a:xfrm>
                <a:off x="1763640" y="4581360"/>
                <a:ext cx="685800" cy="685800"/>
                <a:chOff x="1763640" y="4581360"/>
                <a:chExt cx="685800" cy="685800"/>
              </a:xfrm>
            </p:grpSpPr>
            <p:sp>
              <p:nvSpPr>
                <p:cNvPr id="689" name="Oval 59"/>
                <p:cNvSpPr/>
                <p:nvPr/>
              </p:nvSpPr>
              <p:spPr>
                <a:xfrm>
                  <a:off x="1763640" y="458136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3b9d81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0" name="Oval 60"/>
                <p:cNvSpPr/>
                <p:nvPr/>
              </p:nvSpPr>
              <p:spPr>
                <a:xfrm>
                  <a:off x="1763640" y="458136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3b9d8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1" name="Oval 61"/>
                <p:cNvSpPr/>
                <p:nvPr/>
              </p:nvSpPr>
              <p:spPr>
                <a:xfrm>
                  <a:off x="1809000" y="4626000"/>
                  <a:ext cx="594360" cy="59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5445"/>
                    </a:gs>
                    <a:gs pos="50000">
                      <a:srgbClr val="3b9d81"/>
                    </a:gs>
                    <a:gs pos="100000">
                      <a:srgbClr val="205445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2" name="Oval 62"/>
                <p:cNvSpPr/>
                <p:nvPr/>
              </p:nvSpPr>
              <p:spPr>
                <a:xfrm>
                  <a:off x="1809000" y="4627080"/>
                  <a:ext cx="594360" cy="59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9d81"/>
                    </a:gs>
                    <a:gs pos="100000">
                      <a:srgbClr val="25625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3" name="Group 63"/>
              <p:cNvGrpSpPr/>
              <p:nvPr/>
            </p:nvGrpSpPr>
            <p:grpSpPr>
              <a:xfrm>
                <a:off x="1842120" y="4660560"/>
                <a:ext cx="537120" cy="545400"/>
                <a:chOff x="1842120" y="4660560"/>
                <a:chExt cx="537120" cy="545400"/>
              </a:xfrm>
            </p:grpSpPr>
            <p:sp>
              <p:nvSpPr>
                <p:cNvPr id="694" name="Oval 64"/>
                <p:cNvSpPr/>
                <p:nvPr/>
              </p:nvSpPr>
              <p:spPr>
                <a:xfrm>
                  <a:off x="1842120" y="4670640"/>
                  <a:ext cx="537120" cy="535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95" name="Group 65"/>
                <p:cNvGrpSpPr/>
                <p:nvPr/>
              </p:nvGrpSpPr>
              <p:grpSpPr>
                <a:xfrm>
                  <a:off x="1842120" y="4660560"/>
                  <a:ext cx="519840" cy="519840"/>
                  <a:chOff x="1842120" y="4660560"/>
                  <a:chExt cx="519840" cy="519840"/>
                </a:xfrm>
              </p:grpSpPr>
              <p:sp>
                <p:nvSpPr>
                  <p:cNvPr id="696" name="Oval 66"/>
                  <p:cNvSpPr/>
                  <p:nvPr/>
                </p:nvSpPr>
                <p:spPr>
                  <a:xfrm>
                    <a:off x="1842120" y="4660560"/>
                    <a:ext cx="519840" cy="51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" name="Oval 67"/>
                  <p:cNvSpPr/>
                  <p:nvPr/>
                </p:nvSpPr>
                <p:spPr>
                  <a:xfrm>
                    <a:off x="1848600" y="4663440"/>
                    <a:ext cx="507240" cy="506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Oval 68"/>
                  <p:cNvSpPr/>
                  <p:nvPr/>
                </p:nvSpPr>
                <p:spPr>
                  <a:xfrm>
                    <a:off x="1854000" y="4668120"/>
                    <a:ext cx="482400" cy="473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" name="Oval 69"/>
                  <p:cNvSpPr/>
                  <p:nvPr/>
                </p:nvSpPr>
                <p:spPr>
                  <a:xfrm>
                    <a:off x="1882080" y="4681440"/>
                    <a:ext cx="428760" cy="38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700" name="Text Box 70"/>
            <p:cNvSpPr/>
            <p:nvPr/>
          </p:nvSpPr>
          <p:spPr>
            <a:xfrm>
              <a:off x="1906920" y="4679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01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702" name="AutoShape 72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AutoShape 8"/>
          <p:cNvSpPr/>
          <p:nvPr/>
        </p:nvSpPr>
        <p:spPr>
          <a:xfrm rot="10800000">
            <a:off x="2844360" y="3502080"/>
            <a:ext cx="863640" cy="358560"/>
          </a:xfrm>
          <a:prstGeom prst="rightArrow">
            <a:avLst>
              <a:gd name="adj1" fmla="val 27037"/>
              <a:gd name="adj2" fmla="val 98642"/>
            </a:avLst>
          </a:prstGeom>
          <a:gradFill rotWithShape="0">
            <a:gsLst>
              <a:gs pos="0">
                <a:srgbClr val="3b9d81"/>
              </a:gs>
              <a:gs pos="100000">
                <a:srgbClr val="c5e1d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AutoShape 3"/>
          <p:cNvSpPr/>
          <p:nvPr/>
        </p:nvSpPr>
        <p:spPr>
          <a:xfrm rot="18393000">
            <a:off x="4823640" y="2600640"/>
            <a:ext cx="792360" cy="288720"/>
          </a:xfrm>
          <a:prstGeom prst="rightArrow">
            <a:avLst>
              <a:gd name="adj1" fmla="val 35176"/>
              <a:gd name="adj2" fmla="val 111084"/>
            </a:avLst>
          </a:prstGeom>
          <a:gradFill rotWithShape="0">
            <a:gsLst>
              <a:gs pos="0">
                <a:srgbClr val="3b9d81"/>
              </a:gs>
              <a:gs pos="100000">
                <a:srgbClr val="c5e1d9"/>
              </a:gs>
            </a:gsLst>
            <a:lin ang="8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AutoShape 8"/>
          <p:cNvSpPr/>
          <p:nvPr/>
        </p:nvSpPr>
        <p:spPr>
          <a:xfrm rot="14040000">
            <a:off x="3333600" y="2577960"/>
            <a:ext cx="892080" cy="289080"/>
          </a:xfrm>
          <a:prstGeom prst="rightArrow">
            <a:avLst>
              <a:gd name="adj1" fmla="val 35176"/>
              <a:gd name="adj2" fmla="val 124951"/>
            </a:avLst>
          </a:prstGeom>
          <a:gradFill rotWithShape="0">
            <a:gsLst>
              <a:gs pos="0">
                <a:srgbClr val="3b9d81"/>
              </a:gs>
              <a:gs pos="100000">
                <a:srgbClr val="c5e1d9"/>
              </a:gs>
            </a:gsLst>
            <a:lin ang="1296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Нижний колонтитул 3"/>
          <p:cNvSpPr/>
          <p:nvPr/>
        </p:nvSpPr>
        <p:spPr>
          <a:xfrm>
            <a:off x="5943600" y="63244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21052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Преимущества мультимодальной перевозки</a:t>
            </a:r>
            <a:endParaRPr b="1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8" name="AutoShape 4"/>
          <p:cNvSpPr/>
          <p:nvPr/>
        </p:nvSpPr>
        <p:spPr>
          <a:xfrm rot="2865600">
            <a:off x="4823280" y="4472640"/>
            <a:ext cx="792360" cy="288720"/>
          </a:xfrm>
          <a:prstGeom prst="rightArrow">
            <a:avLst>
              <a:gd name="adj1" fmla="val 35176"/>
              <a:gd name="adj2" fmla="val 111173"/>
            </a:avLst>
          </a:prstGeom>
          <a:gradFill rotWithShape="0">
            <a:gsLst>
              <a:gs pos="0">
                <a:srgbClr val="3b9d81"/>
              </a:gs>
              <a:gs pos="100000">
                <a:srgbClr val="c5e1d9"/>
              </a:gs>
            </a:gsLst>
            <a:lin ang="25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AutoShape 6"/>
          <p:cNvSpPr/>
          <p:nvPr/>
        </p:nvSpPr>
        <p:spPr>
          <a:xfrm rot="7654800">
            <a:off x="3466440" y="4630320"/>
            <a:ext cx="663480" cy="289080"/>
          </a:xfrm>
          <a:prstGeom prst="rightArrow">
            <a:avLst>
              <a:gd name="adj1" fmla="val 34944"/>
              <a:gd name="adj2" fmla="val 86822"/>
            </a:avLst>
          </a:prstGeom>
          <a:gradFill rotWithShape="0">
            <a:gsLst>
              <a:gs pos="0">
                <a:srgbClr val="3b9d81"/>
              </a:gs>
              <a:gs pos="100000">
                <a:srgbClr val="c5e1d9"/>
              </a:gs>
            </a:gsLst>
            <a:lin ang="1934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AutoShape 7"/>
          <p:cNvSpPr/>
          <p:nvPr/>
        </p:nvSpPr>
        <p:spPr>
          <a:xfrm>
            <a:off x="5219640" y="3573360"/>
            <a:ext cx="863640" cy="289080"/>
          </a:xfrm>
          <a:prstGeom prst="rightArrow">
            <a:avLst>
              <a:gd name="adj1" fmla="val 35176"/>
              <a:gd name="adj2" fmla="val 120926"/>
            </a:avLst>
          </a:prstGeom>
          <a:gradFill rotWithShape="0">
            <a:gsLst>
              <a:gs pos="0">
                <a:srgbClr val="3b9d81"/>
              </a:gs>
              <a:gs pos="100000">
                <a:srgbClr val="c5e1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Oval 9"/>
          <p:cNvSpPr/>
          <p:nvPr/>
        </p:nvSpPr>
        <p:spPr>
          <a:xfrm>
            <a:off x="2581200" y="1817640"/>
            <a:ext cx="3743280" cy="3745080"/>
          </a:xfrm>
          <a:prstGeom prst="ellipse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2" name="Group 13"/>
          <p:cNvGrpSpPr/>
          <p:nvPr/>
        </p:nvGrpSpPr>
        <p:grpSpPr>
          <a:xfrm>
            <a:off x="2340000" y="3502080"/>
            <a:ext cx="360360" cy="358560"/>
            <a:chOff x="2340000" y="3502080"/>
            <a:chExt cx="360360" cy="358560"/>
          </a:xfrm>
        </p:grpSpPr>
        <p:sp>
          <p:nvSpPr>
            <p:cNvPr id="713" name="Oval 14"/>
            <p:cNvSpPr/>
            <p:nvPr/>
          </p:nvSpPr>
          <p:spPr>
            <a:xfrm>
              <a:off x="2340000" y="3502080"/>
              <a:ext cx="360360" cy="3585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Oval 15"/>
            <p:cNvSpPr/>
            <p:nvPr/>
          </p:nvSpPr>
          <p:spPr>
            <a:xfrm>
              <a:off x="2355840" y="3531960"/>
              <a:ext cx="223920" cy="22392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5" name="Group 16"/>
          <p:cNvGrpSpPr/>
          <p:nvPr/>
        </p:nvGrpSpPr>
        <p:grpSpPr>
          <a:xfrm>
            <a:off x="3276720" y="5084640"/>
            <a:ext cx="360360" cy="360360"/>
            <a:chOff x="3276720" y="5084640"/>
            <a:chExt cx="360360" cy="360360"/>
          </a:xfrm>
        </p:grpSpPr>
        <p:sp>
          <p:nvSpPr>
            <p:cNvPr id="716" name="Oval 17"/>
            <p:cNvSpPr/>
            <p:nvPr/>
          </p:nvSpPr>
          <p:spPr>
            <a:xfrm>
              <a:off x="3276720" y="50846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Oval 18"/>
            <p:cNvSpPr/>
            <p:nvPr/>
          </p:nvSpPr>
          <p:spPr>
            <a:xfrm>
              <a:off x="3292560" y="51148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8" name="Group 19"/>
          <p:cNvGrpSpPr/>
          <p:nvPr/>
        </p:nvGrpSpPr>
        <p:grpSpPr>
          <a:xfrm>
            <a:off x="5435640" y="1989000"/>
            <a:ext cx="360360" cy="360360"/>
            <a:chOff x="5435640" y="1989000"/>
            <a:chExt cx="360360" cy="360360"/>
          </a:xfrm>
        </p:grpSpPr>
        <p:sp>
          <p:nvSpPr>
            <p:cNvPr id="719" name="Oval 20"/>
            <p:cNvSpPr/>
            <p:nvPr/>
          </p:nvSpPr>
          <p:spPr>
            <a:xfrm>
              <a:off x="5435640" y="19890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Oval 21"/>
            <p:cNvSpPr/>
            <p:nvPr/>
          </p:nvSpPr>
          <p:spPr>
            <a:xfrm>
              <a:off x="5451480" y="20192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1" name="Group 25"/>
          <p:cNvGrpSpPr/>
          <p:nvPr/>
        </p:nvGrpSpPr>
        <p:grpSpPr>
          <a:xfrm>
            <a:off x="6156360" y="3502080"/>
            <a:ext cx="360360" cy="358560"/>
            <a:chOff x="6156360" y="3502080"/>
            <a:chExt cx="360360" cy="358560"/>
          </a:xfrm>
        </p:grpSpPr>
        <p:sp>
          <p:nvSpPr>
            <p:cNvPr id="722" name="Oval 26"/>
            <p:cNvSpPr/>
            <p:nvPr/>
          </p:nvSpPr>
          <p:spPr>
            <a:xfrm>
              <a:off x="6156360" y="3502080"/>
              <a:ext cx="360360" cy="3585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Oval 27"/>
            <p:cNvSpPr/>
            <p:nvPr/>
          </p:nvSpPr>
          <p:spPr>
            <a:xfrm>
              <a:off x="6172200" y="3531960"/>
              <a:ext cx="223920" cy="22392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4" name="Oval 28"/>
          <p:cNvSpPr/>
          <p:nvPr/>
        </p:nvSpPr>
        <p:spPr>
          <a:xfrm>
            <a:off x="3513240" y="27702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b9d81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Oval 29"/>
          <p:cNvSpPr/>
          <p:nvPr/>
        </p:nvSpPr>
        <p:spPr>
          <a:xfrm>
            <a:off x="3724200" y="298116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Oval 30"/>
          <p:cNvSpPr/>
          <p:nvPr/>
        </p:nvSpPr>
        <p:spPr>
          <a:xfrm>
            <a:off x="3746520" y="3000240"/>
            <a:ext cx="1471680" cy="1473480"/>
          </a:xfrm>
          <a:prstGeom prst="ellipse">
            <a:avLst/>
          </a:prstGeom>
          <a:gradFill rotWithShape="0">
            <a:gsLst>
              <a:gs pos="0">
                <a:srgbClr val="6266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Oval 31"/>
          <p:cNvSpPr/>
          <p:nvPr/>
        </p:nvSpPr>
        <p:spPr>
          <a:xfrm>
            <a:off x="3763800" y="3009960"/>
            <a:ext cx="1438560" cy="1434960"/>
          </a:xfrm>
          <a:prstGeom prst="ellipse">
            <a:avLst/>
          </a:prstGeom>
          <a:gradFill rotWithShape="0">
            <a:gsLst>
              <a:gs pos="0">
                <a:srgbClr val="d6e1e2"/>
              </a:gs>
              <a:gs pos="100000">
                <a:srgbClr val="f2f4f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Oval 32"/>
          <p:cNvSpPr/>
          <p:nvPr/>
        </p:nvSpPr>
        <p:spPr>
          <a:xfrm>
            <a:off x="3780000" y="3024360"/>
            <a:ext cx="1366560" cy="1341360"/>
          </a:xfrm>
          <a:prstGeom prst="ellipse">
            <a:avLst/>
          </a:prstGeom>
          <a:gradFill rotWithShape="0">
            <a:gsLst>
              <a:gs pos="0">
                <a:srgbClr val="a9b0b2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Oval 33"/>
          <p:cNvSpPr/>
          <p:nvPr/>
        </p:nvSpPr>
        <p:spPr>
          <a:xfrm>
            <a:off x="3860640" y="3060720"/>
            <a:ext cx="1214640" cy="1090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Text Box 34"/>
          <p:cNvSpPr/>
          <p:nvPr/>
        </p:nvSpPr>
        <p:spPr>
          <a:xfrm>
            <a:off x="3635280" y="3573360"/>
            <a:ext cx="172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e237e"/>
                </a:solidFill>
                <a:latin typeface="Arial"/>
              </a:rPr>
              <a:t>Мультимодальна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e237e"/>
                </a:solidFill>
                <a:latin typeface="Arial"/>
              </a:rPr>
              <a:t>перевоз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Text Box 35"/>
          <p:cNvSpPr/>
          <p:nvPr/>
        </p:nvSpPr>
        <p:spPr>
          <a:xfrm>
            <a:off x="4861080" y="1125360"/>
            <a:ext cx="4044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дешевление доставки сырья и продукции(уменьшение транспортной составляющей в себестоимости товара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Text Box 36"/>
          <p:cNvSpPr/>
          <p:nvPr/>
        </p:nvSpPr>
        <p:spPr>
          <a:xfrm>
            <a:off x="181080" y="1557360"/>
            <a:ext cx="2816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овыш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ние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качеств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оказываемой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транспортной услуг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Text Box 37"/>
          <p:cNvSpPr/>
          <p:nvPr/>
        </p:nvSpPr>
        <p:spPr>
          <a:xfrm>
            <a:off x="6516720" y="2708280"/>
            <a:ext cx="23731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меньшение срок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хождения сырья 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дукции на транспорте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 складах в пунктах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грузки-выгрузк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 перевалк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Text Box 38"/>
          <p:cNvSpPr/>
          <p:nvPr/>
        </p:nvSpPr>
        <p:spPr>
          <a:xfrm>
            <a:off x="3708360" y="5518080"/>
            <a:ext cx="352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озможность использовани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единого транспортног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докумен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Text Box 39"/>
          <p:cNvSpPr/>
          <p:nvPr/>
        </p:nvSpPr>
        <p:spPr>
          <a:xfrm>
            <a:off x="108000" y="2276640"/>
            <a:ext cx="252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6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737" name="AutoShape 36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Text Box 38"/>
          <p:cNvSpPr/>
          <p:nvPr/>
        </p:nvSpPr>
        <p:spPr>
          <a:xfrm>
            <a:off x="112320" y="3573360"/>
            <a:ext cx="229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зможность боле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лного примен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"JUST IN TIME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Text Box 38"/>
          <p:cNvSpPr/>
          <p:nvPr/>
        </p:nvSpPr>
        <p:spPr>
          <a:xfrm>
            <a:off x="181080" y="5230800"/>
            <a:ext cx="3959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централизованная страховк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юбых рисков,связанных с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транспортн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ы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м процесс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0" name="Group 13"/>
          <p:cNvGrpSpPr/>
          <p:nvPr/>
        </p:nvGrpSpPr>
        <p:grpSpPr>
          <a:xfrm>
            <a:off x="3203640" y="1989000"/>
            <a:ext cx="360360" cy="360360"/>
            <a:chOff x="3203640" y="1989000"/>
            <a:chExt cx="360360" cy="360360"/>
          </a:xfrm>
        </p:grpSpPr>
        <p:sp>
          <p:nvSpPr>
            <p:cNvPr id="741" name="Oval 14"/>
            <p:cNvSpPr/>
            <p:nvPr/>
          </p:nvSpPr>
          <p:spPr>
            <a:xfrm>
              <a:off x="3203640" y="19890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Oval 15"/>
            <p:cNvSpPr/>
            <p:nvPr/>
          </p:nvSpPr>
          <p:spPr>
            <a:xfrm>
              <a:off x="3219480" y="20192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3" name="Group 25"/>
          <p:cNvGrpSpPr/>
          <p:nvPr/>
        </p:nvGrpSpPr>
        <p:grpSpPr>
          <a:xfrm>
            <a:off x="5508720" y="4941720"/>
            <a:ext cx="360360" cy="360360"/>
            <a:chOff x="5508720" y="4941720"/>
            <a:chExt cx="360360" cy="360360"/>
          </a:xfrm>
        </p:grpSpPr>
        <p:sp>
          <p:nvSpPr>
            <p:cNvPr id="744" name="Oval 26"/>
            <p:cNvSpPr/>
            <p:nvPr/>
          </p:nvSpPr>
          <p:spPr>
            <a:xfrm>
              <a:off x="5508720" y="4941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Oval 27"/>
            <p:cNvSpPr/>
            <p:nvPr/>
          </p:nvSpPr>
          <p:spPr>
            <a:xfrm>
              <a:off x="5524560" y="4971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Freeform 3"/>
          <p:cNvSpPr/>
          <p:nvPr/>
        </p:nvSpPr>
        <p:spPr>
          <a:xfrm rot="20241600">
            <a:off x="4822920" y="1439640"/>
            <a:ext cx="3179520" cy="2647800"/>
          </a:xfrm>
          <a:custGeom>
            <a:avLst/>
            <a:gdLst>
              <a:gd name="textAreaLeft" fmla="*/ 0 w 3179520"/>
              <a:gd name="textAreaRight" fmla="*/ 3179880 w 3179520"/>
              <a:gd name="textAreaTop" fmla="*/ 0 h 2647800"/>
              <a:gd name="textAreaBottom" fmla="*/ 2648160 h 2647800"/>
            </a:gdLst>
            <a:ahLst/>
            <a:rect l="textAreaLeft" t="textAreaTop" r="textAreaRight" b="textAreaBottom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100000">
                <a:srgbClr val="3399ff"/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Доставка слябов НЛМК на предприятие «NLMK DanSteel A/S»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8" name="Freeform 3"/>
          <p:cNvSpPr/>
          <p:nvPr/>
        </p:nvSpPr>
        <p:spPr>
          <a:xfrm rot="20241600">
            <a:off x="958680" y="2241720"/>
            <a:ext cx="4780080" cy="2279520"/>
          </a:xfrm>
          <a:custGeom>
            <a:avLst/>
            <a:gdLst>
              <a:gd name="textAreaLeft" fmla="*/ 0 w 4780080"/>
              <a:gd name="textAreaRight" fmla="*/ 4780440 w 4780080"/>
              <a:gd name="textAreaTop" fmla="*/ 0 h 2279520"/>
              <a:gd name="textAreaBottom" fmla="*/ 2279880 h 2279520"/>
            </a:gdLst>
            <a:ahLst/>
            <a:rect l="textAreaLeft" t="textAreaTop" r="textAreaRight" b="textAreaBottom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Oval 4"/>
          <p:cNvSpPr/>
          <p:nvPr/>
        </p:nvSpPr>
        <p:spPr>
          <a:xfrm>
            <a:off x="3635280" y="1341360"/>
            <a:ext cx="2160720" cy="127476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Oval 5"/>
          <p:cNvSpPr/>
          <p:nvPr/>
        </p:nvSpPr>
        <p:spPr>
          <a:xfrm>
            <a:off x="7164360" y="2781360"/>
            <a:ext cx="1440000" cy="127476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Oval 6"/>
          <p:cNvSpPr/>
          <p:nvPr/>
        </p:nvSpPr>
        <p:spPr>
          <a:xfrm>
            <a:off x="3419640" y="4365720"/>
            <a:ext cx="4321080" cy="1274760"/>
          </a:xfrm>
          <a:prstGeom prst="ellipse">
            <a:avLst/>
          </a:prstGeom>
          <a:gradFill rotWithShape="0">
            <a:gsLst>
              <a:gs pos="0">
                <a:srgbClr val="eab85e"/>
              </a:gs>
              <a:gs pos="100000">
                <a:srgbClr val="3e32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Oval 7"/>
          <p:cNvSpPr/>
          <p:nvPr/>
        </p:nvSpPr>
        <p:spPr>
          <a:xfrm>
            <a:off x="611280" y="3645000"/>
            <a:ext cx="2160360" cy="1655640"/>
          </a:xfrm>
          <a:prstGeom prst="ellipse">
            <a:avLst/>
          </a:prstGeom>
          <a:gradFill rotWithShape="0">
            <a:gsLst>
              <a:gs pos="0">
                <a:srgbClr val="d476d6"/>
              </a:gs>
              <a:gs pos="100000">
                <a:srgbClr val="391f3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Oval 8"/>
          <p:cNvSpPr/>
          <p:nvPr/>
        </p:nvSpPr>
        <p:spPr>
          <a:xfrm>
            <a:off x="4140360" y="2924280"/>
            <a:ext cx="2411280" cy="108108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Text Box 9"/>
          <p:cNvSpPr/>
          <p:nvPr/>
        </p:nvSpPr>
        <p:spPr>
          <a:xfrm>
            <a:off x="3787560" y="1628640"/>
            <a:ext cx="175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/Д транспор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ПГК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Text Box 10"/>
          <p:cNvSpPr/>
          <p:nvPr/>
        </p:nvSpPr>
        <p:spPr>
          <a:xfrm>
            <a:off x="4284720" y="3141720"/>
            <a:ext cx="22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«Универсаль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Экспедитор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Text Box 11"/>
          <p:cNvSpPr/>
          <p:nvPr/>
        </p:nvSpPr>
        <p:spPr>
          <a:xfrm>
            <a:off x="3635280" y="4653000"/>
            <a:ext cx="38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Выгрузка в порту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Frederiksvaerk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«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.Henriksen Shipping A/S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Text Box 12"/>
          <p:cNvSpPr/>
          <p:nvPr/>
        </p:nvSpPr>
        <p:spPr>
          <a:xfrm>
            <a:off x="684360" y="4005360"/>
            <a:ext cx="2016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Погрузка в порту Калинингра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«Транс-Эксим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Text Box 13"/>
          <p:cNvSpPr/>
          <p:nvPr/>
        </p:nvSpPr>
        <p:spPr>
          <a:xfrm>
            <a:off x="2268360" y="3213000"/>
            <a:ext cx="17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НЛМ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Line 14"/>
          <p:cNvSpPr/>
          <p:nvPr/>
        </p:nvSpPr>
        <p:spPr>
          <a:xfrm>
            <a:off x="2479680" y="1963800"/>
            <a:ext cx="723960" cy="1249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60" name="AutoShape 15"/>
          <p:cNvCxnSpPr/>
          <p:nvPr/>
        </p:nvCxnSpPr>
        <p:spPr>
          <a:xfrm flipH="1">
            <a:off x="463320" y="1963800"/>
            <a:ext cx="20167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761" name="Text Box 16"/>
          <p:cNvSpPr/>
          <p:nvPr/>
        </p:nvSpPr>
        <p:spPr>
          <a:xfrm>
            <a:off x="252360" y="1341360"/>
            <a:ext cx="3672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Verdana"/>
              </a:rPr>
              <a:t>Оператор мультимодально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Verdana"/>
              </a:rPr>
              <a:t>перевозки</a:t>
            </a: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(ОМП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Text Box 17"/>
          <p:cNvSpPr/>
          <p:nvPr/>
        </p:nvSpPr>
        <p:spPr>
          <a:xfrm>
            <a:off x="7236000" y="2997360"/>
            <a:ext cx="129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рской транспор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СЗП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3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764" name="Стрелка вниз 18"/>
          <p:cNvSpPr/>
          <p:nvPr/>
        </p:nvSpPr>
        <p:spPr>
          <a:xfrm>
            <a:off x="5076720" y="4076640"/>
            <a:ext cx="790560" cy="216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709ee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Стрелка вправо 21"/>
          <p:cNvSpPr/>
          <p:nvPr/>
        </p:nvSpPr>
        <p:spPr>
          <a:xfrm>
            <a:off x="6588000" y="3213000"/>
            <a:ext cx="505080" cy="484200"/>
          </a:xfrm>
          <a:prstGeom prst="rightArrow">
            <a:avLst>
              <a:gd name="adj1" fmla="val 50000"/>
              <a:gd name="adj2" fmla="val 50147"/>
            </a:avLst>
          </a:prstGeom>
          <a:solidFill>
            <a:srgbClr val="709ee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Text Box 13"/>
          <p:cNvSpPr/>
          <p:nvPr/>
        </p:nvSpPr>
        <p:spPr>
          <a:xfrm>
            <a:off x="5724360" y="2060640"/>
            <a:ext cx="19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edbff"/>
                </a:solidFill>
                <a:latin typeface="Arial"/>
              </a:rPr>
              <a:t>UCL Holding B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AutoShape 23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AutoShape 15"/>
          <p:cNvSpPr/>
          <p:nvPr/>
        </p:nvSpPr>
        <p:spPr>
          <a:xfrm>
            <a:off x="755640" y="3933720"/>
            <a:ext cx="2087640" cy="719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356e"/>
              </a:gs>
              <a:gs pos="50000">
                <a:srgbClr val="9874f2"/>
              </a:gs>
              <a:gs pos="100000">
                <a:srgbClr val="45356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AutoShape 15"/>
          <p:cNvSpPr/>
          <p:nvPr/>
        </p:nvSpPr>
        <p:spPr>
          <a:xfrm>
            <a:off x="755640" y="3284640"/>
            <a:ext cx="2087640" cy="753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356e"/>
              </a:gs>
              <a:gs pos="50000">
                <a:srgbClr val="9874f2"/>
              </a:gs>
              <a:gs pos="100000">
                <a:srgbClr val="45356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Arial"/>
              </a:rPr>
              <a:t>Доставка металлического листа для производства трубы из Роттердама на </a:t>
            </a:r>
            <a:br>
              <a:rPr sz="1800"/>
            </a:br>
            <a:r>
              <a:rPr b="1" lang="en-US" sz="1800" spc="-1" strike="noStrike">
                <a:solidFill>
                  <a:srgbClr val="ccecff"/>
                </a:solidFill>
                <a:latin typeface="Arial"/>
              </a:rPr>
              <a:t>ОАО «Выксунский металлургический  завод»</a:t>
            </a:r>
            <a:endParaRPr b="1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771" name="Group 27"/>
          <p:cNvGrpSpPr/>
          <p:nvPr/>
        </p:nvGrpSpPr>
        <p:grpSpPr>
          <a:xfrm>
            <a:off x="2873520" y="2862000"/>
            <a:ext cx="3092040" cy="1884600"/>
            <a:chOff x="2873520" y="2862000"/>
            <a:chExt cx="3092040" cy="1884600"/>
          </a:xfrm>
        </p:grpSpPr>
        <p:sp>
          <p:nvSpPr>
            <p:cNvPr id="772" name="AutoShape 4"/>
            <p:cNvSpPr/>
            <p:nvPr/>
          </p:nvSpPr>
          <p:spPr>
            <a:xfrm flipH="1" rot="16200000">
              <a:off x="2792160" y="3012120"/>
              <a:ext cx="490320" cy="327600"/>
            </a:xfrm>
            <a:prstGeom prst="upArrow">
              <a:avLst>
                <a:gd name="adj1" fmla="val 51685"/>
                <a:gd name="adj2" fmla="val 100000"/>
              </a:avLst>
            </a:prstGeom>
            <a:gradFill rotWithShape="0">
              <a:gsLst>
                <a:gs pos="0">
                  <a:srgbClr val="ebf8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AutoShape 5"/>
            <p:cNvSpPr/>
            <p:nvPr/>
          </p:nvSpPr>
          <p:spPr>
            <a:xfrm flipH="1" rot="5400000">
              <a:off x="5556240" y="2943360"/>
              <a:ext cx="490680" cy="327600"/>
            </a:xfrm>
            <a:prstGeom prst="upArrow">
              <a:avLst>
                <a:gd name="adj1" fmla="val 51685"/>
                <a:gd name="adj2" fmla="val 100000"/>
              </a:avLst>
            </a:prstGeom>
            <a:gradFill rotWithShape="0">
              <a:gsLst>
                <a:gs pos="0">
                  <a:srgbClr val="ebf8ff"/>
                </a:gs>
                <a:gs pos="100000">
                  <a:srgbClr val="ccec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AutoShape 6"/>
            <p:cNvSpPr/>
            <p:nvPr/>
          </p:nvSpPr>
          <p:spPr>
            <a:xfrm flipH="1" rot="10800000">
              <a:off x="4179240" y="4419720"/>
              <a:ext cx="490320" cy="326880"/>
            </a:xfrm>
            <a:prstGeom prst="upArrow">
              <a:avLst>
                <a:gd name="adj1" fmla="val 51685"/>
                <a:gd name="adj2" fmla="val 100000"/>
              </a:avLst>
            </a:prstGeom>
            <a:gradFill rotWithShape="0">
              <a:gsLst>
                <a:gs pos="0">
                  <a:srgbClr val="ebf8ff"/>
                </a:gs>
                <a:gs pos="100000">
                  <a:srgbClr val="cce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5" name="Oval 7"/>
          <p:cNvSpPr/>
          <p:nvPr/>
        </p:nvSpPr>
        <p:spPr>
          <a:xfrm>
            <a:off x="3146400" y="1905120"/>
            <a:ext cx="2563920" cy="2563560"/>
          </a:xfrm>
          <a:prstGeom prst="ellipse">
            <a:avLst/>
          </a:prstGeom>
          <a:gradFill rotWithShape="0">
            <a:gsLst>
              <a:gs pos="0">
                <a:srgbClr val="747474"/>
              </a:gs>
              <a:gs pos="50000">
                <a:srgbClr val="ffffff"/>
              </a:gs>
              <a:gs pos="100000">
                <a:srgbClr val="7474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Oval 8"/>
          <p:cNvSpPr/>
          <p:nvPr/>
        </p:nvSpPr>
        <p:spPr>
          <a:xfrm>
            <a:off x="3292560" y="2049480"/>
            <a:ext cx="2270160" cy="2270160"/>
          </a:xfrm>
          <a:prstGeom prst="ellipse">
            <a:avLst/>
          </a:prstGeom>
          <a:gradFill rotWithShape="0">
            <a:gsLst>
              <a:gs pos="0">
                <a:srgbClr val="a0a0a0"/>
              </a:gs>
              <a:gs pos="50000">
                <a:srgbClr val="ffffff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Oval 9"/>
          <p:cNvSpPr/>
          <p:nvPr/>
        </p:nvSpPr>
        <p:spPr>
          <a:xfrm>
            <a:off x="3425760" y="2184480"/>
            <a:ext cx="2003400" cy="2006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b9d81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Oval 10"/>
          <p:cNvSpPr/>
          <p:nvPr/>
        </p:nvSpPr>
        <p:spPr>
          <a:xfrm>
            <a:off x="3419640" y="2205000"/>
            <a:ext cx="2003400" cy="200664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Oval 11"/>
          <p:cNvSpPr/>
          <p:nvPr/>
        </p:nvSpPr>
        <p:spPr>
          <a:xfrm>
            <a:off x="3557520" y="2316240"/>
            <a:ext cx="1739880" cy="1743120"/>
          </a:xfrm>
          <a:prstGeom prst="ellipse">
            <a:avLst/>
          </a:prstGeom>
          <a:gradFill rotWithShape="0">
            <a:gsLst>
              <a:gs pos="0">
                <a:srgbClr val="205445"/>
              </a:gs>
              <a:gs pos="50000">
                <a:srgbClr val="3b9d81"/>
              </a:gs>
              <a:gs pos="100000">
                <a:srgbClr val="20544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Oval 12"/>
          <p:cNvSpPr/>
          <p:nvPr/>
        </p:nvSpPr>
        <p:spPr>
          <a:xfrm>
            <a:off x="3557520" y="2316240"/>
            <a:ext cx="1739880" cy="1743120"/>
          </a:xfrm>
          <a:prstGeom prst="ellipse">
            <a:avLst/>
          </a:prstGeom>
          <a:gradFill rotWithShape="0">
            <a:gsLst>
              <a:gs pos="0">
                <a:srgbClr val="7a6200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AutoShape 13"/>
          <p:cNvSpPr/>
          <p:nvPr/>
        </p:nvSpPr>
        <p:spPr>
          <a:xfrm>
            <a:off x="755640" y="2784600"/>
            <a:ext cx="208764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356e"/>
              </a:gs>
              <a:gs pos="50000">
                <a:srgbClr val="9874f2"/>
              </a:gs>
              <a:gs pos="100000">
                <a:srgbClr val="45356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AutoShape 14"/>
          <p:cNvSpPr/>
          <p:nvPr/>
        </p:nvSpPr>
        <p:spPr>
          <a:xfrm>
            <a:off x="755640" y="2276640"/>
            <a:ext cx="2087640" cy="583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356e"/>
              </a:gs>
              <a:gs pos="50000">
                <a:srgbClr val="9874f2"/>
              </a:gs>
              <a:gs pos="100000">
                <a:srgbClr val="45356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AutoShape 15"/>
          <p:cNvSpPr/>
          <p:nvPr/>
        </p:nvSpPr>
        <p:spPr>
          <a:xfrm>
            <a:off x="755640" y="1628640"/>
            <a:ext cx="2087640" cy="6811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356e"/>
              </a:gs>
              <a:gs pos="50000">
                <a:srgbClr val="9874f2"/>
              </a:gs>
              <a:gs pos="100000">
                <a:srgbClr val="45356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Text Box 19"/>
          <p:cNvSpPr/>
          <p:nvPr/>
        </p:nvSpPr>
        <p:spPr>
          <a:xfrm>
            <a:off x="3419640" y="2708280"/>
            <a:ext cx="2082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ирекция по транспортной логистик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(Москва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ВМЗ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AutoShape 20"/>
          <p:cNvSpPr/>
          <p:nvPr/>
        </p:nvSpPr>
        <p:spPr>
          <a:xfrm>
            <a:off x="2556000" y="5013360"/>
            <a:ext cx="3960720" cy="72072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709e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ыксунский металлургическ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зав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Text Box 21"/>
          <p:cNvSpPr/>
          <p:nvPr/>
        </p:nvSpPr>
        <p:spPr>
          <a:xfrm>
            <a:off x="828720" y="1844640"/>
            <a:ext cx="194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ечной иностранны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оннаж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Text Box 22"/>
          <p:cNvSpPr/>
          <p:nvPr/>
        </p:nvSpPr>
        <p:spPr>
          <a:xfrm>
            <a:off x="900000" y="2408400"/>
            <a:ext cx="18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.Steinwe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Rhenus Logistics B.V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Text Box 23"/>
          <p:cNvSpPr/>
          <p:nvPr/>
        </p:nvSpPr>
        <p:spPr>
          <a:xfrm>
            <a:off x="1227960" y="294156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СЗП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9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23"/>
          <p:cNvSpPr/>
          <p:nvPr/>
        </p:nvSpPr>
        <p:spPr>
          <a:xfrm>
            <a:off x="826920" y="4149720"/>
            <a:ext cx="18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ПГК» и «ТГК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AutoShape 18"/>
          <p:cNvSpPr/>
          <p:nvPr/>
        </p:nvSpPr>
        <p:spPr>
          <a:xfrm>
            <a:off x="6084720" y="4005360"/>
            <a:ext cx="230364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b483b"/>
              </a:gs>
              <a:gs pos="50000">
                <a:srgbClr val="3b9d81"/>
              </a:gs>
              <a:gs pos="100000">
                <a:srgbClr val="1b483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AutoShape 18"/>
          <p:cNvSpPr/>
          <p:nvPr/>
        </p:nvSpPr>
        <p:spPr>
          <a:xfrm>
            <a:off x="6084720" y="3429000"/>
            <a:ext cx="230364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b483b"/>
              </a:gs>
              <a:gs pos="50000">
                <a:srgbClr val="3b9d81"/>
              </a:gs>
              <a:gs pos="100000">
                <a:srgbClr val="1b483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AutoShape 16"/>
          <p:cNvSpPr/>
          <p:nvPr/>
        </p:nvSpPr>
        <p:spPr>
          <a:xfrm>
            <a:off x="6084720" y="2852640"/>
            <a:ext cx="230364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b483b"/>
              </a:gs>
              <a:gs pos="50000">
                <a:srgbClr val="3b9d81"/>
              </a:gs>
              <a:gs pos="100000">
                <a:srgbClr val="1b483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AutoShape 17"/>
          <p:cNvSpPr/>
          <p:nvPr/>
        </p:nvSpPr>
        <p:spPr>
          <a:xfrm>
            <a:off x="6084720" y="2276640"/>
            <a:ext cx="230364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b483b"/>
              </a:gs>
              <a:gs pos="50000">
                <a:srgbClr val="3b9d81"/>
              </a:gs>
              <a:gs pos="100000">
                <a:srgbClr val="1b483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AutoShape 18"/>
          <p:cNvSpPr/>
          <p:nvPr/>
        </p:nvSpPr>
        <p:spPr>
          <a:xfrm>
            <a:off x="6084720" y="1700280"/>
            <a:ext cx="230364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b483b"/>
              </a:gs>
              <a:gs pos="50000">
                <a:srgbClr val="3b9d81"/>
              </a:gs>
              <a:gs pos="100000">
                <a:srgbClr val="1b483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Text Box 24"/>
          <p:cNvSpPr/>
          <p:nvPr/>
        </p:nvSpPr>
        <p:spPr>
          <a:xfrm>
            <a:off x="6300720" y="1844640"/>
            <a:ext cx="185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ечной иностранны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оннаж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Text Box 25"/>
          <p:cNvSpPr/>
          <p:nvPr/>
        </p:nvSpPr>
        <p:spPr>
          <a:xfrm>
            <a:off x="6302520" y="2421000"/>
            <a:ext cx="179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.Steinwe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Rhenus Logistics B.V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Text Box 26"/>
          <p:cNvSpPr/>
          <p:nvPr/>
        </p:nvSpPr>
        <p:spPr>
          <a:xfrm>
            <a:off x="6300720" y="2997360"/>
            <a:ext cx="182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СЗП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Text Box 26"/>
          <p:cNvSpPr/>
          <p:nvPr/>
        </p:nvSpPr>
        <p:spPr>
          <a:xfrm>
            <a:off x="6156360" y="3645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Совфрахт-НН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Text Box 26"/>
          <p:cNvSpPr/>
          <p:nvPr/>
        </p:nvSpPr>
        <p:spPr>
          <a:xfrm>
            <a:off x="6443640" y="4221000"/>
            <a:ext cx="182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РЖД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Text Box 23"/>
          <p:cNvSpPr/>
          <p:nvPr/>
        </p:nvSpPr>
        <p:spPr>
          <a:xfrm>
            <a:off x="755640" y="342900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Универсальный Экспедитор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Freeform 8"/>
          <p:cNvSpPr/>
          <p:nvPr/>
        </p:nvSpPr>
        <p:spPr>
          <a:xfrm>
            <a:off x="6588000" y="4653000"/>
            <a:ext cx="728640" cy="1152360"/>
          </a:xfrm>
          <a:custGeom>
            <a:avLst/>
            <a:gdLst>
              <a:gd name="textAreaLeft" fmla="*/ 0 w 728640"/>
              <a:gd name="textAreaRight" fmla="*/ 729000 w 728640"/>
              <a:gd name="textAreaTop" fmla="*/ 0 h 1152360"/>
              <a:gd name="textAreaBottom" fmla="*/ 1152720 h 115236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3e1d9"/>
              </a:gs>
              <a:gs pos="100000">
                <a:srgbClr val="3b9d8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Freeform 10"/>
          <p:cNvSpPr/>
          <p:nvPr/>
        </p:nvSpPr>
        <p:spPr>
          <a:xfrm flipH="1">
            <a:off x="1763640" y="4581360"/>
            <a:ext cx="720720" cy="1219320"/>
          </a:xfrm>
          <a:custGeom>
            <a:avLst/>
            <a:gdLst>
              <a:gd name="textAreaLeft" fmla="*/ 360 w 720720"/>
              <a:gd name="textAreaRight" fmla="*/ 721440 w 72072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3e1f6"/>
              </a:gs>
              <a:gs pos="100000">
                <a:srgbClr val="709ee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AutoShape 38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979640" y="404640"/>
            <a:ext cx="6934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ecff"/>
                </a:solidFill>
                <a:latin typeface="Arial"/>
              </a:rPr>
              <a:t>Перспективы развития и совершенствования </a:t>
            </a:r>
            <a:br>
              <a:rPr sz="2100"/>
            </a:br>
            <a:r>
              <a:rPr b="1" lang="en-US" sz="2100" spc="-1" strike="noStrike">
                <a:solidFill>
                  <a:srgbClr val="ccecff"/>
                </a:solidFill>
                <a:latin typeface="Arial"/>
              </a:rPr>
              <a:t>мультимодальных перевозок</a:t>
            </a:r>
            <a:endParaRPr b="1" lang="en-US" sz="2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6" name="AutoShape 3"/>
          <p:cNvSpPr/>
          <p:nvPr/>
        </p:nvSpPr>
        <p:spPr>
          <a:xfrm>
            <a:off x="-28440" y="981000"/>
            <a:ext cx="7624800" cy="5113440"/>
          </a:xfrm>
          <a:prstGeom prst="rightArrow">
            <a:avLst>
              <a:gd name="adj1" fmla="val 79315"/>
              <a:gd name="adj2" fmla="val 36933"/>
            </a:avLst>
          </a:prstGeom>
          <a:gradFill rotWithShape="0">
            <a:gsLst>
              <a:gs pos="0">
                <a:srgbClr val="adc9f0"/>
              </a:gs>
              <a:gs pos="100000">
                <a:srgbClr val="709ee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AutoShape 4"/>
          <p:cNvSpPr/>
          <p:nvPr/>
        </p:nvSpPr>
        <p:spPr>
          <a:xfrm>
            <a:off x="109440" y="1557360"/>
            <a:ext cx="5975280" cy="4334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9874f2"/>
              </a:gs>
              <a:gs pos="100000">
                <a:srgbClr val="45356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дание и развитие МТ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AutoShape 5"/>
          <p:cNvSpPr/>
          <p:nvPr/>
        </p:nvSpPr>
        <p:spPr>
          <a:xfrm>
            <a:off x="109440" y="2060640"/>
            <a:ext cx="6334200" cy="431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3b9d81"/>
              </a:gs>
              <a:gs pos="100000">
                <a:srgbClr val="1b483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крупнение и диверсификация бизнеса и услу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AutoShape 6"/>
          <p:cNvSpPr/>
          <p:nvPr/>
        </p:nvSpPr>
        <p:spPr>
          <a:xfrm>
            <a:off x="108000" y="2567160"/>
            <a:ext cx="6696000" cy="431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80c040"/>
              </a:gs>
              <a:gs pos="100000">
                <a:srgbClr val="3a571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теграция в производственный проце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AutoShape 7"/>
          <p:cNvSpPr/>
          <p:nvPr/>
        </p:nvSpPr>
        <p:spPr>
          <a:xfrm rot="5400000">
            <a:off x="5471280" y="2709720"/>
            <a:ext cx="5038920" cy="1295640"/>
          </a:xfrm>
          <a:prstGeom prst="roundRect">
            <a:avLst>
              <a:gd name="adj" fmla="val 910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e101"/>
                </a:solidFill>
                <a:latin typeface="Arial"/>
              </a:rPr>
              <a:t>Мультимодальные перевоз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1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812" name="AutoShape 9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e237e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AutoShape 4"/>
          <p:cNvSpPr/>
          <p:nvPr/>
        </p:nvSpPr>
        <p:spPr>
          <a:xfrm>
            <a:off x="109440" y="3071880"/>
            <a:ext cx="6910560" cy="431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9874f2"/>
              </a:gs>
              <a:gs pos="100000">
                <a:srgbClr val="45356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тимизация путей финансирования перевоз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AutoShape 5"/>
          <p:cNvSpPr/>
          <p:nvPr/>
        </p:nvSpPr>
        <p:spPr>
          <a:xfrm>
            <a:off x="109440" y="3573360"/>
            <a:ext cx="6912000" cy="647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3b9d81"/>
              </a:gs>
              <a:gs pos="100000">
                <a:srgbClr val="1b483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нимизация рисков путем страхова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ам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исков одним юридическим лиц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AutoShape 6"/>
          <p:cNvSpPr/>
          <p:nvPr/>
        </p:nvSpPr>
        <p:spPr>
          <a:xfrm>
            <a:off x="108000" y="4292640"/>
            <a:ext cx="6480000" cy="57636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80c040"/>
              </a:gs>
              <a:gs pos="100000">
                <a:srgbClr val="3a571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тимизация и унификация документооборо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ранспортного проце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AutoShape 5"/>
          <p:cNvSpPr/>
          <p:nvPr/>
        </p:nvSpPr>
        <p:spPr>
          <a:xfrm>
            <a:off x="108000" y="4943520"/>
            <a:ext cx="6048360" cy="50472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3b9d81"/>
              </a:gs>
              <a:gs pos="100000">
                <a:srgbClr val="1b483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ехническая модернизация составляющих проце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Структура UCL Holding BV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8" name="AutoShape 3"/>
          <p:cNvSpPr/>
          <p:nvPr/>
        </p:nvSpPr>
        <p:spPr>
          <a:xfrm>
            <a:off x="1476360" y="2060640"/>
            <a:ext cx="5759640" cy="2638440"/>
          </a:xfrm>
          <a:prstGeom prst="upArrow">
            <a:avLst>
              <a:gd name="adj1" fmla="val 56944"/>
              <a:gd name="adj2" fmla="val 50778"/>
            </a:avLst>
          </a:prstGeom>
          <a:gradFill rotWithShape="0">
            <a:gsLst>
              <a:gs pos="0">
                <a:srgbClr val="9874f2"/>
              </a:gs>
              <a:gs pos="100000">
                <a:srgbClr val="00344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AutoShape 4"/>
          <p:cNvSpPr/>
          <p:nvPr/>
        </p:nvSpPr>
        <p:spPr>
          <a:xfrm>
            <a:off x="1260360" y="1197000"/>
            <a:ext cx="5975640" cy="7920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709e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Universal Cargo Logistics Hold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UCL Holding BV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Text Box 5"/>
          <p:cNvSpPr/>
          <p:nvPr/>
        </p:nvSpPr>
        <p:spPr>
          <a:xfrm>
            <a:off x="3542400" y="2692440"/>
            <a:ext cx="16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визио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Oval 8"/>
          <p:cNvSpPr/>
          <p:nvPr/>
        </p:nvSpPr>
        <p:spPr>
          <a:xfrm>
            <a:off x="434880" y="3897360"/>
            <a:ext cx="1544760" cy="15447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Oval 9"/>
          <p:cNvSpPr/>
          <p:nvPr/>
        </p:nvSpPr>
        <p:spPr>
          <a:xfrm>
            <a:off x="468360" y="3933720"/>
            <a:ext cx="1473120" cy="1474920"/>
          </a:xfrm>
          <a:prstGeom prst="ellipse">
            <a:avLst/>
          </a:prstGeom>
          <a:gradFill rotWithShape="0">
            <a:gsLst>
              <a:gs pos="0">
                <a:srgbClr val="93733b"/>
              </a:gs>
              <a:gs pos="100000">
                <a:srgbClr val="eab8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Oval 10"/>
          <p:cNvSpPr/>
          <p:nvPr/>
        </p:nvSpPr>
        <p:spPr>
          <a:xfrm>
            <a:off x="525600" y="3987720"/>
            <a:ext cx="1331640" cy="1332000"/>
          </a:xfrm>
          <a:prstGeom prst="ellipse">
            <a:avLst/>
          </a:prstGeom>
          <a:gradFill rotWithShape="0">
            <a:gsLst>
              <a:gs pos="0">
                <a:srgbClr val="a78343"/>
              </a:gs>
              <a:gs pos="100000">
                <a:srgbClr val="eab8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4" name="Picture 11" descr="Picture1"/>
          <p:cNvPicPr/>
          <p:nvPr/>
        </p:nvPicPr>
        <p:blipFill>
          <a:blip r:embed="rId3"/>
          <a:stretch/>
        </p:blipFill>
        <p:spPr>
          <a:xfrm>
            <a:off x="468360" y="398772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825" name="Text Box 12"/>
          <p:cNvSpPr/>
          <p:nvPr/>
        </p:nvSpPr>
        <p:spPr>
          <a:xfrm>
            <a:off x="582120" y="4516560"/>
            <a:ext cx="121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CL RA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Oval 15"/>
          <p:cNvSpPr/>
          <p:nvPr/>
        </p:nvSpPr>
        <p:spPr>
          <a:xfrm>
            <a:off x="2090880" y="3897360"/>
            <a:ext cx="1544400" cy="154476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Oval 16"/>
          <p:cNvSpPr/>
          <p:nvPr/>
        </p:nvSpPr>
        <p:spPr>
          <a:xfrm>
            <a:off x="2124000" y="3933720"/>
            <a:ext cx="1473120" cy="1474920"/>
          </a:xfrm>
          <a:prstGeom prst="ellipse">
            <a:avLst/>
          </a:prstGeom>
          <a:gradFill rotWithShape="0">
            <a:gsLst>
              <a:gs pos="0">
                <a:srgbClr val="256251"/>
              </a:gs>
              <a:gs pos="100000">
                <a:srgbClr val="3b9d8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Oval 17"/>
          <p:cNvSpPr/>
          <p:nvPr/>
        </p:nvSpPr>
        <p:spPr>
          <a:xfrm>
            <a:off x="2181240" y="3987720"/>
            <a:ext cx="1332000" cy="1332000"/>
          </a:xfrm>
          <a:prstGeom prst="ellipse">
            <a:avLst/>
          </a:prstGeom>
          <a:gradFill rotWithShape="0">
            <a:gsLst>
              <a:gs pos="0">
                <a:srgbClr val="2a705d"/>
              </a:gs>
              <a:gs pos="100000">
                <a:srgbClr val="3b9d8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9" name="Picture 18" descr="Picture1"/>
          <p:cNvPicPr/>
          <p:nvPr/>
        </p:nvPicPr>
        <p:blipFill>
          <a:blip r:embed="rId5"/>
          <a:stretch/>
        </p:blipFill>
        <p:spPr>
          <a:xfrm>
            <a:off x="2124000" y="3987720"/>
            <a:ext cx="978120" cy="97812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19"/>
          <p:cNvSpPr/>
          <p:nvPr/>
        </p:nvSpPr>
        <p:spPr>
          <a:xfrm>
            <a:off x="2198160" y="451656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CL 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Oval 22"/>
          <p:cNvSpPr/>
          <p:nvPr/>
        </p:nvSpPr>
        <p:spPr>
          <a:xfrm>
            <a:off x="3780000" y="3860640"/>
            <a:ext cx="1544400" cy="154476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Oval 23"/>
          <p:cNvSpPr/>
          <p:nvPr/>
        </p:nvSpPr>
        <p:spPr>
          <a:xfrm>
            <a:off x="3813120" y="3897360"/>
            <a:ext cx="1473120" cy="1474920"/>
          </a:xfrm>
          <a:prstGeom prst="ellipse">
            <a:avLst/>
          </a:prstGeom>
          <a:gradFill rotWithShape="0">
            <a:gsLst>
              <a:gs pos="0">
                <a:srgbClr val="45648e"/>
              </a:gs>
              <a:gs pos="100000">
                <a:srgbClr val="709ee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Oval 24"/>
          <p:cNvSpPr/>
          <p:nvPr/>
        </p:nvSpPr>
        <p:spPr>
          <a:xfrm>
            <a:off x="3870360" y="3951360"/>
            <a:ext cx="1332000" cy="1332000"/>
          </a:xfrm>
          <a:prstGeom prst="ellipse">
            <a:avLst/>
          </a:prstGeom>
          <a:gradFill rotWithShape="0">
            <a:gsLst>
              <a:gs pos="0">
                <a:srgbClr val="5071a2"/>
              </a:gs>
              <a:gs pos="100000">
                <a:srgbClr val="709ee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4" name="Picture 25" descr="Picture1"/>
          <p:cNvPicPr/>
          <p:nvPr/>
        </p:nvPicPr>
        <p:blipFill>
          <a:blip r:embed="rId7"/>
          <a:stretch/>
        </p:blipFill>
        <p:spPr>
          <a:xfrm>
            <a:off x="3813120" y="3951360"/>
            <a:ext cx="978120" cy="977760"/>
          </a:xfrm>
          <a:prstGeom prst="rect">
            <a:avLst/>
          </a:prstGeom>
          <a:ln w="0">
            <a:noFill/>
          </a:ln>
        </p:spPr>
      </p:pic>
      <p:sp>
        <p:nvSpPr>
          <p:cNvPr id="835" name="Text Box 26"/>
          <p:cNvSpPr/>
          <p:nvPr/>
        </p:nvSpPr>
        <p:spPr>
          <a:xfrm>
            <a:off x="4139280" y="44798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VB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Oval 29"/>
          <p:cNvSpPr/>
          <p:nvPr/>
        </p:nvSpPr>
        <p:spPr>
          <a:xfrm>
            <a:off x="7164360" y="3860640"/>
            <a:ext cx="1544760" cy="154476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Oval 30"/>
          <p:cNvSpPr/>
          <p:nvPr/>
        </p:nvSpPr>
        <p:spPr>
          <a:xfrm>
            <a:off x="7197840" y="3897360"/>
            <a:ext cx="1473120" cy="1474920"/>
          </a:xfrm>
          <a:prstGeom prst="ellipse">
            <a:avLst/>
          </a:prstGeom>
          <a:gradFill rotWithShape="0">
            <a:gsLst>
              <a:gs pos="0">
                <a:srgbClr val="507728"/>
              </a:gs>
              <a:gs pos="100000">
                <a:srgbClr val="80c0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Oval 31"/>
          <p:cNvSpPr/>
          <p:nvPr/>
        </p:nvSpPr>
        <p:spPr>
          <a:xfrm>
            <a:off x="7254720" y="3951360"/>
            <a:ext cx="1332000" cy="1332000"/>
          </a:xfrm>
          <a:prstGeom prst="ellipse">
            <a:avLst/>
          </a:prstGeom>
          <a:gradFill rotWithShape="0">
            <a:gsLst>
              <a:gs pos="0">
                <a:srgbClr val="5c892e"/>
              </a:gs>
              <a:gs pos="100000">
                <a:srgbClr val="80c0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9" name="Picture 32" descr="Picture1"/>
          <p:cNvPicPr/>
          <p:nvPr/>
        </p:nvPicPr>
        <p:blipFill>
          <a:blip r:embed="rId9"/>
          <a:stretch/>
        </p:blipFill>
        <p:spPr>
          <a:xfrm>
            <a:off x="7197840" y="3951360"/>
            <a:ext cx="977760" cy="977760"/>
          </a:xfrm>
          <a:prstGeom prst="rect">
            <a:avLst/>
          </a:prstGeom>
          <a:ln w="0">
            <a:noFill/>
          </a:ln>
        </p:spPr>
      </p:pic>
      <p:sp>
        <p:nvSpPr>
          <p:cNvPr id="840" name="Text Box 33"/>
          <p:cNvSpPr/>
          <p:nvPr/>
        </p:nvSpPr>
        <p:spPr>
          <a:xfrm>
            <a:off x="7094520" y="4481640"/>
            <a:ext cx="167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правляюща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компа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1" name="Picture 2" descr=""/>
          <p:cNvPicPr/>
          <p:nvPr/>
        </p:nvPicPr>
        <p:blipFill>
          <a:blip r:embed="rId10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842" name="AutoShape 27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e237e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Oval 29"/>
          <p:cNvSpPr/>
          <p:nvPr/>
        </p:nvSpPr>
        <p:spPr>
          <a:xfrm>
            <a:off x="5546880" y="3897360"/>
            <a:ext cx="1544400" cy="154476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Oval 30"/>
          <p:cNvSpPr/>
          <p:nvPr/>
        </p:nvSpPr>
        <p:spPr>
          <a:xfrm>
            <a:off x="5580000" y="3933720"/>
            <a:ext cx="1473120" cy="1474920"/>
          </a:xfrm>
          <a:prstGeom prst="ellipse">
            <a:avLst/>
          </a:prstGeom>
          <a:gradFill rotWithShape="0">
            <a:gsLst>
              <a:gs pos="0">
                <a:srgbClr val="507728"/>
              </a:gs>
              <a:gs pos="100000">
                <a:srgbClr val="80c0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Oval 31"/>
          <p:cNvSpPr/>
          <p:nvPr/>
        </p:nvSpPr>
        <p:spPr>
          <a:xfrm>
            <a:off x="5637240" y="3987720"/>
            <a:ext cx="1332000" cy="1332000"/>
          </a:xfrm>
          <a:prstGeom prst="ellipse">
            <a:avLst/>
          </a:prstGeom>
          <a:gradFill rotWithShape="0">
            <a:gsLst>
              <a:gs pos="0">
                <a:srgbClr val="5c892e"/>
              </a:gs>
              <a:gs pos="100000">
                <a:srgbClr val="80c0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6" name="Picture 32" descr="Picture1"/>
          <p:cNvPicPr/>
          <p:nvPr/>
        </p:nvPicPr>
        <p:blipFill>
          <a:blip r:embed="rId12"/>
          <a:stretch/>
        </p:blipFill>
        <p:spPr>
          <a:xfrm>
            <a:off x="5580000" y="3987720"/>
            <a:ext cx="978120" cy="978120"/>
          </a:xfrm>
          <a:prstGeom prst="rect">
            <a:avLst/>
          </a:prstGeom>
          <a:ln w="0">
            <a:noFill/>
          </a:ln>
        </p:spPr>
      </p:pic>
      <p:sp>
        <p:nvSpPr>
          <p:cNvPr id="847" name="Text Box 33"/>
          <p:cNvSpPr/>
          <p:nvPr/>
        </p:nvSpPr>
        <p:spPr>
          <a:xfrm>
            <a:off x="5477040" y="4444920"/>
            <a:ext cx="1679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Логистически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компан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6T08:22:38Z</dcterms:created>
  <dc:creator>Борис</dc:creator>
  <dc:description/>
  <dc:language>en-US</dc:language>
  <cp:lastModifiedBy>Перевязко Владимир Викторович</cp:lastModifiedBy>
  <dcterms:modified xsi:type="dcterms:W3CDTF">2014-11-11T22:23:51Z</dcterms:modified>
  <cp:revision>89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9.1.0.4909</vt:lpwstr>
  </property>
</Properties>
</file>